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6819-ED73-40F4-B1EF-72EF9A39A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3DD1-24AA-4197-8042-58E2C376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E2D0-D3D3-4A69-ABA9-593FD505A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B3A6-9ED2-4A25-9335-6186539FD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4793-E4DD-4C08-B157-36DB1314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9C50-5038-47C8-A294-6201DBF3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FB1F-BCC4-4260-8493-1122187B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16A9-A901-4DD0-B750-A6B3FEF5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5A2F-EF65-47E5-BF86-07E08963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243C-F5FA-4AF2-B626-4FB2EC8F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62B3-56A7-4BB9-83F0-263C4850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3CE3-1592-48EC-A4D8-85799DB6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5BF1-1FAE-4396-BF6D-9F61C38E4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5000" y="1042920"/>
            <a:ext cx="1403640" cy="439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clipse workbe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aining plug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1773360"/>
            <a:ext cx="2887560" cy="555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org.eclipse.ve.examples.customwid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lugin contribu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customwidgetplugin.j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"/>
          <p:cNvCxnSpPr>
            <a:stCxn id="41" idx="2"/>
            <a:endCxn id="42" idx="1"/>
          </p:cNvCxnSpPr>
          <p:nvPr/>
        </p:nvCxnSpPr>
        <p:spPr>
          <a:xfrm>
            <a:off x="1466640" y="1482840"/>
            <a:ext cx="10080" cy="568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85800" y="2994120"/>
            <a:ext cx="2440080" cy="2127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98840" y="2328840"/>
            <a:ext cx="0" cy="5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2565360"/>
            <a:ext cx="2462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est.Java openWith Visual Edi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32400" y="94932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2720" y="549360"/>
            <a:ext cx="1148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clipse.exe JV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lugin s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88000" y="549360"/>
            <a:ext cx="1684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sual Editor target JV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untime s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10200" y="3452760"/>
            <a:ext cx="69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44960" y="2840040"/>
            <a:ext cx="1427400" cy="1276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arget VM inclu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customwidgets.j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ased on the build p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f the Java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14:32:03Z</dcterms:created>
  <dc:creator>IBM_USER</dc:creator>
  <dc:description/>
  <dc:language>en-US</dc:language>
  <cp:lastModifiedBy>Gili Mendel</cp:lastModifiedBy>
  <dcterms:modified xsi:type="dcterms:W3CDTF">2005-03-22T18:31:52Z</dcterms:modified>
  <cp:revision>4</cp:revision>
  <dc:subject/>
  <dc:title>Slide 1</dc:title>
</cp:coreProperties>
</file>