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3185-AE39-46ED-92C1-D2944360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8108-2781-4BA0-BE0D-838163AB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CEC0-CBDE-4554-8116-CC2CD51B1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9B85-3F96-48A7-AEDB-D150A69A3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47F7-1D62-48D5-BB2E-5F255822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B3B7-5465-4889-B0E2-C57FB22E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866E-AC90-426A-87E0-7690DB27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264E-381C-4966-9D84-7BA839B6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5609-553D-4655-9084-CEF641CF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D1B7-5351-42D5-9DA1-5DA67341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99E3-861B-4734-8703-99316543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F9E8-8DD7-404D-824F-3720A56D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5704-F74F-4703-B9B8-9CECB5053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5000" y="1042920"/>
            <a:ext cx="1403640" cy="439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clipse workbe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aining plug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1773360"/>
            <a:ext cx="2887560" cy="555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org.eclipse.ve.examples.customwid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lugin contribu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customwidgetplugin.j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1" idx="2"/>
            <a:endCxn id="42" idx="1"/>
          </p:cNvCxnSpPr>
          <p:nvPr/>
        </p:nvCxnSpPr>
        <p:spPr>
          <a:xfrm>
            <a:off x="1466640" y="1482840"/>
            <a:ext cx="10080" cy="568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85800" y="2994120"/>
            <a:ext cx="2440080" cy="2127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98840" y="2328840"/>
            <a:ext cx="0" cy="5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2565360"/>
            <a:ext cx="246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est.Java openWith Visual Edi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32400" y="94932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2720" y="549360"/>
            <a:ext cx="1148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clipse.exe JV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lugin s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88000" y="549360"/>
            <a:ext cx="1684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sual Editor target JV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untime s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10200" y="3452760"/>
            <a:ext cx="69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44960" y="2840040"/>
            <a:ext cx="1427400" cy="1276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arget VM inclu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customwidgets.j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ased on the build p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f the Java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4:32:03Z</dcterms:created>
  <dc:creator>IBM_USER</dc:creator>
  <dc:description/>
  <dc:language>en-US</dc:language>
  <cp:lastModifiedBy>Gili Mendel</cp:lastModifiedBy>
  <dcterms:modified xsi:type="dcterms:W3CDTF">2005-03-22T18:31:52Z</dcterms:modified>
  <cp:revision>4</cp:revision>
  <dc:subject/>
  <dc:title>Slide 1</dc:title>
</cp:coreProperties>
</file>