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BC87-E2E1-4A0C-8FB1-8076009F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4788-5685-4AAA-8E67-2C3597AC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312-3D82-4056-9419-3ACCE5ED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09ED-4203-44E3-9B2B-86944FFC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A420-C430-4DC4-BB90-D20090A2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09E3-53A9-4947-8940-D4409187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BA60-E105-46B8-A940-5A139911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51C4-E817-48FB-A91A-E0F0C2E7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12B3-0F0C-4102-91BD-A81E3704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CCE-4E97-43EE-8676-0245E917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FBE8-AEAB-4A2B-93E3-294423D2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8043-ADBE-4B53-895B-4A8E865F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40F8-90C1-462F-8863-41C0DF3FF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5000" y="1042920"/>
            <a:ext cx="1403640" cy="439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clipse workbe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ining plug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773360"/>
            <a:ext cx="2887560" cy="555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org.eclipse.ve.examples.customw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ugin contrib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customwidgetplugin.j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>
            <a:off x="1466640" y="1482840"/>
            <a:ext cx="10080" cy="56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85800" y="2994120"/>
            <a:ext cx="2440080" cy="2127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98840" y="2328840"/>
            <a:ext cx="0" cy="5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565360"/>
            <a:ext cx="246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st.Java openWith Visual Edi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32400" y="9493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2720" y="549360"/>
            <a:ext cx="114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clipse.exe J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lugin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8000" y="549360"/>
            <a:ext cx="168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sual Editor target J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ntime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45276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44960" y="2840040"/>
            <a:ext cx="1427400" cy="1276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rget VM inclu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customwidgets.j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sed on the build 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Java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4:32:03Z</dcterms:created>
  <dc:creator>IBM_USER</dc:creator>
  <dc:description/>
  <dc:language>en-US</dc:language>
  <cp:lastModifiedBy>Gili Mendel</cp:lastModifiedBy>
  <dcterms:modified xsi:type="dcterms:W3CDTF">2005-03-22T18:31:52Z</dcterms:modified>
  <cp:revision>4</cp:revision>
  <dc:subject/>
  <dc:title>Slide 1</dc:title>
</cp:coreProperties>
</file>