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0BF-2681-46F1-8CBD-FF1F03F7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C9A-CED7-4582-9351-4F8D2C28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AF9-66D7-4622-89D9-2CE95D0E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6D9-B4FA-4DE9-9541-D145F7C5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506-7F98-4D16-8FEF-DB7FE430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E14-3FDA-4A8D-94CD-E9843657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C83-B734-43C1-90E2-C879AE3A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3B5-956A-4FEE-B523-5F367D18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04D-6450-4B2A-9E49-2D097048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10F-C7F3-4AEE-9B6A-F53082DC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2DE-C837-41E2-9964-00663F4A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7B0-D04C-4F87-BD87-F783D89F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B82B-F555-45DD-BD2A-73A460419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4488120" cy="4906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4171680" cy="232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4952520" y="22860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657600"/>
            <a:ext cx="38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9:06:03Z</dcterms:created>
  <dc:creator>Gili Mendel</dc:creator>
  <dc:description/>
  <dc:language>en-US</dc:language>
  <cp:lastModifiedBy>Gili Mendel</cp:lastModifiedBy>
  <dcterms:modified xsi:type="dcterms:W3CDTF">2005-03-22T19:24:10Z</dcterms:modified>
  <cp:revision>1</cp:revision>
  <dc:subject/>
  <dc:title>Slide 1</dc:title>
</cp:coreProperties>
</file>