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F12-781A-4CE7-AFBC-F915AD9E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77D-36E0-4FEF-B49D-7B7B4AD0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56D1-B417-4114-B578-39923219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72D-D6A2-4522-AE4E-82D293AB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7BF-55EE-492C-AB51-DF829EDF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8302-5D2D-46E9-AAE9-8D46D55C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6C5-46DE-49BB-9F12-A211C20F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69A-B57E-4C6C-8036-E9EF4CA6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257-35A3-44AA-A9BC-01693D40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65B-D99C-45AB-8A5E-42B6EA4A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0F74-EEA5-451C-950A-3DB544AE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142F-E07E-4940-8D11-42179E80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0A3B-F095-4CB3-8EA1-7A607DC42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124080" y="228600"/>
            <a:ext cx="4488120" cy="4906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4171680" cy="2324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4952520" y="228600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3657600"/>
            <a:ext cx="380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9:06:03Z</dcterms:created>
  <dc:creator>Gili Mendel</dc:creator>
  <dc:description/>
  <dc:language>en-US</dc:language>
  <cp:lastModifiedBy>Gili Mendel</cp:lastModifiedBy>
  <dcterms:modified xsi:type="dcterms:W3CDTF">2005-03-22T19:24:10Z</dcterms:modified>
  <cp:revision>1</cp:revision>
  <dc:subject/>
  <dc:title>Slide 1</dc:title>
</cp:coreProperties>
</file>