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FFBEA-B0D7-418D-B8AF-61370481E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EDCC4-A9E8-4E1E-8CA9-7FA56B297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6EEB9-6592-49D0-99C3-601E5E91F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B246B-A2A9-4AEE-BE6D-3D8853EE4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AA969-F98D-4E12-BFDD-2A47E648D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0D529-6F9C-4618-88C7-5DB01CEBB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D55A3-C7A1-43B5-8AE1-72F232154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A394F-19BE-4AA6-8434-6DC8667F6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A1D45-3CC9-46A3-AB7C-165DBAFC9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CABBE-63ED-4C23-A79A-22B294CF3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D6EBD-D77B-4D41-99A7-DE762B484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2DF7F-0E07-4806-A3C4-40DA63D9D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4D475-1F45-4ED1-BF66-D4160C3F9B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5000" y="1042920"/>
            <a:ext cx="1403640" cy="439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clipse workben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ntaining plugi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76360" y="1773360"/>
            <a:ext cx="2887560" cy="5554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urier New"/>
              </a:rPr>
              <a:t>org.eclipse.ve.examples.customwidg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plugin contribu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urier New"/>
              </a:rPr>
              <a:t>customwidgetplugin.j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" name=""/>
          <p:cNvCxnSpPr>
            <a:stCxn id="41" idx="2"/>
            <a:endCxn id="42" idx="1"/>
          </p:cNvCxnSpPr>
          <p:nvPr/>
        </p:nvCxnSpPr>
        <p:spPr>
          <a:xfrm>
            <a:off x="1466640" y="1482840"/>
            <a:ext cx="10080" cy="568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585800" y="2994120"/>
            <a:ext cx="2440080" cy="21272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598840" y="2328840"/>
            <a:ext cx="0" cy="56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55640" y="2565360"/>
            <a:ext cx="2462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Test.Java openWith Visual Edi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32400" y="949320"/>
            <a:ext cx="0" cy="4495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72720" y="549360"/>
            <a:ext cx="11484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eclipse.exe JV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plugin si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788000" y="549360"/>
            <a:ext cx="1684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isual Editor target JV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untime si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210200" y="3452760"/>
            <a:ext cx="69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944960" y="2840040"/>
            <a:ext cx="1427400" cy="12762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Target VM inclu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urier New"/>
              </a:rPr>
              <a:t>customwidgets.j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based on the build pat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f the Java proj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2T14:32:03Z</dcterms:created>
  <dc:creator>IBM_USER</dc:creator>
  <dc:description/>
  <dc:language>en-US</dc:language>
  <cp:lastModifiedBy>Gili Mendel</cp:lastModifiedBy>
  <dcterms:modified xsi:type="dcterms:W3CDTF">2005-03-22T18:31:52Z</dcterms:modified>
  <cp:revision>4</cp:revision>
  <dc:subject/>
  <dc:title>Slide 1</dc:title>
</cp:coreProperties>
</file>