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B91-990C-4AC9-AE61-A3B550D9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869-50F7-4CD4-A3C2-5D772269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854-229B-45B6-BA89-58A5A929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7F1-1B34-42D9-9B3A-4B6DDADA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FC8-4538-431B-BD60-5804B059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98E-50CC-49DD-85C7-4B225E0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F5E-0442-4AD7-BA77-DAA301AB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0B73-79E2-4CA8-A807-8E903DDA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556-336F-4CFF-92C5-F5716A4D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586-F075-4D42-B8AD-0A17398E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2F7-4ED6-4AB6-8D1C-049FF13E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F4C-D482-4BF3-939A-228279D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A58-0BD9-43EB-8A08-9D76C628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5000" y="1042920"/>
            <a:ext cx="1403640" cy="43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clipse workbe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aining plug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773360"/>
            <a:ext cx="2887560" cy="555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org.eclipse.ve.examples.customw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lugin con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plugin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1" idx="2"/>
            <a:endCxn id="42" idx="1"/>
          </p:cNvCxnSpPr>
          <p:nvPr/>
        </p:nvCxnSpPr>
        <p:spPr>
          <a:xfrm>
            <a:off x="1466640" y="1482840"/>
            <a:ext cx="10080" cy="56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85800" y="2994120"/>
            <a:ext cx="2440080" cy="2127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8840" y="2328840"/>
            <a:ext cx="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565360"/>
            <a:ext cx="246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st.Java openWith Visual Edi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32400" y="949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2720" y="549360"/>
            <a:ext cx="1148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clipse.exe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lugin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549360"/>
            <a:ext cx="168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sual Editor target JV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untime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10200" y="3452760"/>
            <a:ext cx="69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44960" y="2840040"/>
            <a:ext cx="1427400" cy="1276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rget VM inclu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customwidgets.j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sed on the build 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Java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32:03Z</dcterms:created>
  <dc:creator>IBM_USER</dc:creator>
  <dc:description/>
  <dc:language>en-US</dc:language>
  <cp:lastModifiedBy>Gili Mendel</cp:lastModifiedBy>
  <dcterms:modified xsi:type="dcterms:W3CDTF">2005-03-22T18:31:52Z</dcterms:modified>
  <cp:revision>4</cp:revision>
  <dc:subject/>
  <dc:title>Slide 1</dc:title>
</cp:coreProperties>
</file>