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268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268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B9B8-18CE-45A8-B412-18B1AAB38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3858-D662-46FD-A40B-554FE726D7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98E7-939D-42EC-996C-949869B00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12F8-6DD2-4733-B4D8-477AB3503F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3970-37DC-4886-900F-FA372FE975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8FC9-0EB5-40C8-8F74-76840B931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AAFE-89AE-4050-948F-D5B03DF23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3E5D-C494-4A66-876F-62055D1930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C065-FFDC-4304-8229-26A462094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E037-A969-4889-889B-4B2F4E42A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7C0B-754B-4B79-BA04-1F625C8602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268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400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268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9219-7244-4E3D-8A21-DF97EC7C8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72FF-2F6F-49E9-A16F-EE64D80B998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E824-4F4C-4C70-BE50-2C175F4CB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lipse.org/org/processes/Eclipse_Standard_TopLevel_Charter_v1.0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lipse.org/legal/newcommitter.html" TargetMode="External"/><Relationship Id="rId2" Type="http://schemas.openxmlformats.org/officeDocument/2006/relationships/hyperlink" Target="http://www.eclipse.org/legal/EclipseMemberCommitterAgreementFinal.pdf" TargetMode="External"/><Relationship Id="rId3" Type="http://schemas.openxmlformats.org/officeDocument/2006/relationships/hyperlink" Target="http://www.eclipse.org/legal/member_committer_questionnaire.html" TargetMode="External"/><Relationship Id="rId4" Type="http://schemas.openxmlformats.org/officeDocument/2006/relationships/hyperlink" Target="http://www.eclipse.org/legal/EclipseIndividualCommitterAgreementFinal.pdf" TargetMode="External"/><Relationship Id="rId5" Type="http://schemas.openxmlformats.org/officeDocument/2006/relationships/hyperlink" Target="http://www.eclipse.org/legal/employer_consent.pdf" TargetMode="External"/><Relationship Id="rId6" Type="http://schemas.openxmlformats.org/officeDocument/2006/relationships/hyperlink" Target="http://www.eclipse.org/legal/committerguidelines.html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clipse IP Due Diligence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640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 / DD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– 14 Octo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G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tributors:  Developers vs. Committer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who makes a contribution to the Eclipse Foundation website or to Eclipse projects is considered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ribu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Contributors, Eclipse differentiates betwe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s have more responsibilities than develop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-in rights to parts of the project’s CVS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participation in mailing lists and news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ing in 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review of developer sub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ue diligence on submissions and assisting project lead in tracking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rs who provide frequent and valuable contributions to a project can be nominated to be commit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clipse Standard Char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the roles of developers and committers and the process for nominating and voting on committers.</a:t>
            </a:r>
            <a:br>
              <a:rPr sz="1600"/>
            </a:b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org/processes/Eclipse_Standard_TopLevel_Charter_v1.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re on Committer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becoming a new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legal/newcommitt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mber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mitter who works for an Eclipse member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must execute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ber Committer Agreement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legal/EclipseMemberCommitterAgreementFinal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committer must fill out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ber Committer Questionnai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eclipse.org/legal/member_committer_question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mitter not working for an Eclipse member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tter must execute 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dividual Committer Agreement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4"/>
              </a:rPr>
              <a:t>http://www.eclipse.org/legal/EclipseIndividualCommitterAgreementFina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must execute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itter Employer Consent Form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5"/>
              </a:rPr>
              <a:t>http://www.eclipse.org/legal/employer_consent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tter must fill out 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dividual Committer Questionnai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clipse.org/legal/individual_committer_questionnair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6"/>
              </a:rPr>
              <a:t>http://www.eclipse.org/legal/committerguidelines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contributor can submit code to a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ntributions from non-committers MUST come through a traceabl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mailing list and newsgroup submissions are technically ok, the preferred and recommended submission method is vi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zilla attach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from Committers do not require Bugzilla attach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de a “Significant Contribution” requiring IP due dilig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100 lines of co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a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-party licensed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with potential cryp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g fixes and minor enhancements are excluded from the “significant” label, but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review the code for appropriateness prior to check-in: technical correctness, no legal or copyright references, no profanity, no cryptography, etc. See the committer guidelines for mor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ubmission is a “significant contribution”, the following steps must occ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C must approve the technical suitability of the code for the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 must complete the Contribution Questionnair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legal/ContributionQuestionnairePart1-v1.0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O must perform IP due diligence and approve the con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r commits the code to the project’s CVS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 (if required) must be completed prior to check-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priate legal documentation must be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L no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copyright and lic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icenses for third-part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ttp://www.eclipse.org/legal/guidetolegaldoc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L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trac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ibutions from non-committers and for “significant contribution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raceability is public and is available on the projects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nning Council is working on a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ject Lo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utomated thi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org/processes/Guidelines_for_Eclipse_Development_Process/project-lo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Bugzilla for everything allows mostly automatic generation of the project 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Process Made Eas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120" y="1844640"/>
            <a:ext cx="311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: Did I write this cod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000" y="2565360"/>
            <a:ext cx="271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it come from a Bugzill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10520" y="1557360"/>
            <a:ext cx="2289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contributor cre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gzilla en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3357720"/>
            <a:ext cx="2911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, create about.html, et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ommit to CV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4560" y="4076640"/>
            <a:ext cx="3128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have a non-EPL licens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7440" y="4797360"/>
            <a:ext cx="1596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t &gt;100 LOC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3080" y="5589720"/>
            <a:ext cx="2652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have cryptography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2320" y="3760920"/>
            <a:ext cx="3475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out a Contribution Questionnai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360" y="4941720"/>
            <a:ext cx="3465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Foundation IP due-dilig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ply that it is ok to inclu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205000"/>
            <a:ext cx="1440" cy="11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20500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1989000"/>
            <a:ext cx="1511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995640" y="2133720"/>
            <a:ext cx="266400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79640" y="2852640"/>
            <a:ext cx="431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76360" y="4437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92720" y="407628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780000" y="4076640"/>
            <a:ext cx="23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4149720"/>
            <a:ext cx="18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164360" y="407664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643280" y="5516640"/>
            <a:ext cx="237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116000" y="6237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116000" y="3933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4840" y="251604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560" y="21337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20131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000" y="328464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44085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1560" y="51577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6360" y="3933720"/>
            <a:ext cx="2872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5813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1640" y="476892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7960" y="440856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44680" y="383220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413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ow, this is a pain!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, but the proce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full traceability on Eclipse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s that code can carry the EPL lab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s companies confidence in their commercial products built upon Ecli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Bugzilla for all submissions automates the traceability and should simplify this process for developers and contribu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Doug G. Gaff</cp:lastModifiedBy>
  <dcterms:modified xsi:type="dcterms:W3CDTF">2005-10-12T12:59:23Z</dcterms:modified>
  <cp:revision>178</cp:revision>
  <dc:subject/>
  <dc:title>Slide 1</dc:title>
</cp:coreProperties>
</file>