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EAC9-FD30-43AB-91A1-93BA2371AE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A689-D507-46B1-B991-4465BDBFDF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4A19-6C8F-44F7-ACF7-DCB97E50C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F348-EC3B-4784-9D76-AE1AA353FC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08E3-A597-4FB4-B799-7B7BEFD78D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BECB-FB04-4564-BD56-9C6A84CC9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3FDE-8A5E-44C6-961A-DCCC9B27B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73C0-15C0-433E-A647-E759DE17E8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88A4-A636-4FA7-9566-151C9A14DF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A7C3-7BB3-4387-AF31-3EBBEED610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820F-5659-4398-9C1C-C2429BAC88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2617-467E-471E-8967-36B67566A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FC4F-7E19-4357-A65F-604BBD5721B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945-E507-4CB0-80F0-3ADC47795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 the Borderline between Target Management and Debugg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 Simple Approach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371600"/>
            <a:ext cx="8305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Management prepares the target connection(s) and launches the debugge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that a debugger can take over on an abstract connec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2209680"/>
          <a:ext cx="7772400" cy="3427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rget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bug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ing: does everything to create or find a context to debug (Process, 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s over once the context is kn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 board properties, access control, target connections and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s with an abstract debugger conn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s and Resets target sys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les symbol files for loaded modules on attached contex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s target specific properties (per target connecti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s breakpoints and options (per Launc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ut is really everything so clear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ers can be very vendor speci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they “Launch themselves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an abstract debugger connection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make sense to deal with hardware specifics like board layout and CPU in target manag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ting a target can be complex on J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to the Target vs. Attach to a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debugger attaches to the Kernel, all contexts are at its 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View can show same things as a TM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nd there are grey zones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mounted file systems between host and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by TM for “downloading” and launch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Debugger Symbol File Loading (Object Path Mapp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 may know how to initialize path mappings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bjects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 outside debugging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ebugger symbol info may be needed to fill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and managed by 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ebugger may want to do synchronous run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M can help the Debugger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agree on interfaces and AP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 can provide a pluggable abstract debugger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RDebuggerBack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 can provide connection-specific storage for debugger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TAG scan chain, board lay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that should be valid for multiple Lau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nection-specific data store could be passed to the debugger in the Launch (since a connection reference needs to be stored in the Launch anyw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M should be optional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host - native connections don’t need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connection, no properties, no download, no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could provide “null” implementations of TM featu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extended by TM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ebuggers could search for TM extensions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one side of the border could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Anything that is needed by local host - native debug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long to T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Martin Oberhuber</cp:lastModifiedBy>
  <dcterms:modified xsi:type="dcterms:W3CDTF">2005-10-13T12:04:57Z</dcterms:modified>
  <cp:revision>200</cp:revision>
  <dc:subject/>
  <dc:title>Slide 1</dc:title>
</cp:coreProperties>
</file>