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EDDDE-BC10-4413-8C7B-37AD8FEAD20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4CC5C-0947-4E6A-AFB8-0F297CC2984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4E293-CB1F-4F0B-AE32-D72CC23A22E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56865-292A-4B6F-9DDB-86A80251E4E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4D078-9208-44C8-85F0-EC4D8DC9937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07640" y="770040"/>
            <a:ext cx="7559640" cy="231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51BE0-572A-440E-90EA-8CAE531E441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76F85-5985-4809-BDF7-A121131723D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2CC63-6427-4612-8A61-0963C710723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FB4EE-0F03-46C3-8547-8B4ADC4F9A8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60188-676C-4312-B7D3-1208243E90F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3ECF9-3CB4-4883-922E-BE00A64B1F0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E7714-6EB5-4ECA-B68B-511C12E6E73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640" y="770040"/>
            <a:ext cx="7559640" cy="231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7524720" y="189000"/>
            <a:ext cx="1540080" cy="1539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0" y="6453360"/>
            <a:ext cx="9144000" cy="40464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40464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5"/>
          <a:stretch/>
        </p:blipFill>
        <p:spPr>
          <a:xfrm>
            <a:off x="179280" y="6597720"/>
            <a:ext cx="1554120" cy="1350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8195040" y="6477120"/>
            <a:ext cx="110592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2727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326CB-CF69-46A9-9ED7-699FEF694D08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2014560" y="6553080"/>
            <a:ext cx="592164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2727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© Wind River Systems, released under EPL 1.0.  All logos are TM of their respective companies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564000" cy="3564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4920" y="2535120"/>
            <a:ext cx="79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324560" y="64990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© 2002 IBM Corporati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023920" y="6226200"/>
            <a:ext cx="41148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Confidential 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0" y="5950080"/>
            <a:ext cx="9144000" cy="9079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 type="sldNum" idx="1"/>
          </p:nvPr>
        </p:nvSpPr>
        <p:spPr>
          <a:xfrm>
            <a:off x="6883560" y="25416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06F86-0136-464E-8E6F-C8762FF6A9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179280" y="6389640"/>
            <a:ext cx="1554120" cy="135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09440" y="6613560"/>
            <a:ext cx="592164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2727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© Wind River Systems, released under EPL 1.0.  All logos are TM of their respective companies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7920" algn="ctr"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94920" y="2535120"/>
            <a:ext cx="79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On the Borderline between Target Management and Debugging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949400" y="4060440"/>
            <a:ext cx="6400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tin Oberhuber, Wind River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A Simple Approach</a:t>
            </a: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9480" y="1371600"/>
            <a:ext cx="830592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2727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rget Management prepares the target connection(s) and launches the debugger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ch that a debugger can take over on an abstract connection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762120" y="2209680"/>
          <a:ext cx="7772400" cy="342756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65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arget Managemen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Debugg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unching: does everything to create or find a context to debug (Process, …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kes over once the context is know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tup board properties, access control, target connections and protocol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als with an abstract debugger connect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ads and Resets target system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ndles symbol files for loaded modules on attached context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ores target specific properties (per target connection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ores breakpoints and options (per Launch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But is really everything so clear?</a:t>
            </a: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buggers can be very vendor specifi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ould they “Launch themselves”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es an abstract debugger connection make sens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es it make sense to deal with hardware specifics like board layout and CPU in target manager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etting a target can be complex on JTA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tach to the Target vs. Attach to a con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n debugger attaches to the Kernel, all contexts are at its dispos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bug View can show same things as a TM 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And there are grey zones…</a:t>
            </a: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oss-mounted file systems between host and tar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d by TM for “downloading” and launch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d for Debugger Symbol File Loading (Object Path Mapping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M may know how to initialize path mappings automatical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rnel Objects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ist outside debugging con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debugger symbol info may be needed to fill 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 Grou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 up and managed by T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debugger may want to do synchronous run contr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TM can help the Debugger</a:t>
            </a: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we agree on interfaces and API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 can provide a pluggable abstract debugger 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WRDebuggerBack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 can provide connection-specific storage for debugger o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TAG scan chain, board lay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ons that should be valid for multiple Launch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connection-specific data store could be passed to the debugger in the Launch (since a connection reference needs to be stored in the Launch anywa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TM should be optional</a:t>
            </a: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 host - native connections don’t need 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ple connection, no properties, no download, no reboo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tform could provide “null” implementations of TM feature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be extended by TM plug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debuggers could search for TM extensions themselv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, one side of the border could b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“Anything that is needed by local host - native debugging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not belong to TM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6T19:44:13Z</dcterms:created>
  <dc:creator>Ian Skerrett</dc:creator>
  <dc:description/>
  <dc:language>en-US</dc:language>
  <cp:lastModifiedBy>Martin Oberhuber</cp:lastModifiedBy>
  <dcterms:modified xsi:type="dcterms:W3CDTF">2005-10-13T12:04:57Z</dcterms:modified>
  <cp:revision>200</cp:revision>
  <dc:subject/>
  <dc:title>Slide 1</dc:title>
</cp:coreProperties>
</file>