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EB44AA-B9B1-469F-92A7-935E1C1F3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should be available as GUI plug-in (e.g. menu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lso as a component or action to use as part of a Lau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ervice Type is defined with a common interface, vendors can exchange a service with a different one of sam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an be gone over very fast if you don’t want to explain services in much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want to mention that RSE was originally developed for remote Edit and Compile on Mainframe comput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shipping with the IBM iSeries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framework is very useful for DSDP-T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store” uses a special Java-based agent on the remote computer. It basically runs on every remote system that has a JV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evices, Java is often not available. But RSE Plug-ins already exist for many other connection schemes besides “Datastor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FTP plugin, for example, exists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pane shows the Remote Systems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ltiple system types are possible (more system types pluggable via extension 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“Files” subsystem supports file system browsing, upload, download on a 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les can be edited as if they were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izable filters limit the view to show only relevant items (mimizes data transf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ubsystems exist for “Shells” and “Process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bottom pane shows the Remote Monitor showing process activity on a remo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roducts that are based on CDT and support remote Launching use the “Local C/C++ Application” Lau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rovide an additional GUI for debugger setup via CDI, to modify the debugger options such that a remot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reated or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rovide a clean, flexible connection configuration, connection selection and contribu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DT “Remote Application” Launch depends on DSDP-T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doesn’t necessarily mean that products based on CDT have to depend on DSDP-T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tional “Remote Application” Launch will not be loaded if the DSDP-TM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DP provides views, team-shareable connections, and pluggabl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s mean “depends 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s have two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“Tool-specific part” (Select a C/C++ Project; build-on-launch; Launch Shortc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“Target-specific part” (Download, remote run, remote att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T … Fortran Develop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P … Parallel Tools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TP … Test and Performance Tool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DT Integration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 widget for selecting (or potentially creating) a connection for the given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 the target connection reference as a String in the Launch, and re-create it from its String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arget connection data that is relevant for attaching the debugger properly (and potentially store additional data that is relevant for the debugger only, like a default Source Path Mapping for the given conn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 Communication Framework (ECF) planned to provide connection abstractions for DSDP-TM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F is currently a Technology project (depending on Eclipse Runtime and OSGi on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it provides good, lightweight abstractions for communication, it might go into the Platform eventu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version of DSDP-TM core will not (yet) depend on EC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the Launch Sequencer might depend on how Scripting in general progresses in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SDP space is very wide, with lots of vendors providing partial solutions in their area of expert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DP needs to be very modular, so that vendors can plug in THEIR implementations of connectivity, target descriptions, and target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” software development is also changing from local-only to adding remote hosts (thus DSDP-TM is relevant there as w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ulti-Platform development, I.e. build and debug on remote hosts from a single local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tributed / Remote 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tributed Test environments for multiple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b Applications deployed to remot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d targets – e.g. board labs; managed deployed targets (via DSM) with a database of deployed configurations (for updates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ight notice that the M2 (first CDT integration) is NOT guaranteed to have FTP transport and download as part of the Lau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for us it is important to get the basic infrastructure out as a release, so that vendors can start working with it / exte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 Doug: Please clarify CDT release train, to understand when and how we can contribute the “Remote Lau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companies that were at the last DSDP face-to-face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mbedded OS vendors, semiconductor vendors, tools ven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anies have been at previous phone meet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aV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3E9F-9DF0-4E9E-A81E-2E76439D30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BE1A-4CE8-44FD-BA91-8DC98B018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5AFB-C5C6-47DD-AB0C-ED5B9D690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C61D-F08E-4E04-A838-669D780D82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34D6-4DCA-41F1-92D2-DB23CDC892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385F-3FB2-4E5B-94FC-B3A50F292F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61DC-7B05-4D5F-9F58-6C2B868A1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A4EC-8818-43D6-8DF4-9282DE1461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11C9-2B74-4307-B44E-A4C0A106E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FB21-0F5C-4F92-850C-F0A1C8A534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FCAF-94DA-44BF-BA59-9C8104FAF2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304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0" y="17758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92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304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4800" y="4069080"/>
            <a:ext cx="27824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A5B0-2C5E-4304-895F-F6759640F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640" y="770040"/>
            <a:ext cx="755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40690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775880"/>
            <a:ext cx="42170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69080"/>
            <a:ext cx="86421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79280" y="659772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41200" y="6489720"/>
            <a:ext cx="1105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76C9-1761-47DA-ABB3-C8B21FE8FA6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63640" y="6553080"/>
            <a:ext cx="69944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 with some IBM content, released under EPL 1.0.  Logos TM of their respective companie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ldNum" idx="1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F2E-B0DA-4D1A-9AEE-95C514B16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6389640"/>
            <a:ext cx="1554120" cy="13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9440" y="6613560"/>
            <a:ext cx="59216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Wind River Systems, released under EPL 1.0.  All logos are TM of their respective compani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clipse.org/dsdp/dd" TargetMode="External"/><Relationship Id="rId2" Type="http://schemas.openxmlformats.org/officeDocument/2006/relationships/hyperlink" Target="http://www.eclipse.org/downloads/download.php?file=/dsdp/dd/2005-10-12_Chicago_DD_FlexibleDebugPlatform.pp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download.php?file=/dsdp/dd/2005-10-12_Chicago_DD_MultipleDebugContexts.ppt" TargetMode="External"/><Relationship Id="rId2" Type="http://schemas.openxmlformats.org/officeDocument/2006/relationships/hyperlink" Target="http://www.eclipse.org/downloads/download.php?file=/dsdp/dd/2005-10-12_Chicago_DD_EclipsePinnedDebugViews.pp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developer.ibm.com/isv/rational/remote_system_explorer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clipse.org/dsdp/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jpe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SDP Status Update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005 CDT Confer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4920" y="4076280"/>
            <a:ext cx="79851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Gaff, Wind River Systems, PMC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Oberhuber, Wind River Systems, TM Project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in Wright, IBM, Eclips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6BB5-C5BA-40BB-B0CD-383BEA4488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1) View Content: 3.1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280" y="2152800"/>
            <a:ext cx="1494000" cy="315252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71680" y="23335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ontent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7920" y="192888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err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31040" y="2614680"/>
            <a:ext cx="1611360" cy="6192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4960" y="2484360"/>
            <a:ext cx="1611000" cy="6192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12000" y="2305080"/>
            <a:ext cx="1611360" cy="6192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51476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tandard 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8000" y="3600360"/>
            <a:ext cx="2024280" cy="914400"/>
          </a:xfrm>
          <a:prstGeom prst="plus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Workbench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0"/>
            <a:endCxn id="131" idx="0"/>
          </p:cNvCxnSpPr>
          <p:nvPr/>
        </p:nvCxnSpPr>
        <p:spPr>
          <a:xfrm flipH="1" flipV="1" rot="5400000">
            <a:off x="2180880" y="1348920"/>
            <a:ext cx="7200" cy="1975680"/>
          </a:xfrm>
          <a:prstGeom prst="curvedConnector5">
            <a:avLst>
              <a:gd name="adj1" fmla="val 6547368"/>
              <a:gd name="adj2" fmla="val 49990"/>
              <a:gd name="adj3" fmla="val 654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2" idx="1"/>
          </p:cNvCxnSpPr>
          <p:nvPr/>
        </p:nvCxnSpPr>
        <p:spPr>
          <a:xfrm flipV="1">
            <a:off x="3971520" y="2270880"/>
            <a:ext cx="446760" cy="405720"/>
          </a:xfrm>
          <a:prstGeom prst="bentConnector3">
            <a:avLst>
              <a:gd name="adj1" fmla="val 497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2" idx="0"/>
            <a:endCxn id="135" idx="0"/>
          </p:cNvCxnSpPr>
          <p:nvPr/>
        </p:nvCxnSpPr>
        <p:spPr>
          <a:xfrm flipH="1" rot="16200000">
            <a:off x="6279840" y="865800"/>
            <a:ext cx="376920" cy="2500920"/>
          </a:xfrm>
          <a:prstGeom prst="bentConnector3">
            <a:avLst>
              <a:gd name="adj1" fmla="val -607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2"/>
            <a:endCxn id="137" idx="3"/>
          </p:cNvCxnSpPr>
          <p:nvPr/>
        </p:nvCxnSpPr>
        <p:spPr>
          <a:xfrm rot="5400000">
            <a:off x="7012800" y="3352680"/>
            <a:ext cx="113400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2"/>
            <a:endCxn id="136" idx="6"/>
          </p:cNvCxnSpPr>
          <p:nvPr/>
        </p:nvCxnSpPr>
        <p:spPr>
          <a:xfrm rot="5400000">
            <a:off x="5603040" y="4316040"/>
            <a:ext cx="629640" cy="102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0"/>
            <a:endCxn id="135" idx="1"/>
          </p:cNvCxnSpPr>
          <p:nvPr/>
        </p:nvCxnSpPr>
        <p:spPr>
          <a:xfrm flipH="1" flipV="1" rot="5400000">
            <a:off x="4714560" y="2317320"/>
            <a:ext cx="1900800" cy="249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1" idx="2"/>
            <a:endCxn id="130" idx="1"/>
          </p:cNvCxnSpPr>
          <p:nvPr/>
        </p:nvCxnSpPr>
        <p:spPr>
          <a:xfrm rot="5400000">
            <a:off x="2202120" y="2759400"/>
            <a:ext cx="710280" cy="1229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5" idx="2"/>
          </p:cNvCxnSpPr>
          <p:nvPr/>
        </p:nvCxnSpPr>
        <p:spPr>
          <a:xfrm rot="5400000">
            <a:off x="4428000" y="438840"/>
            <a:ext cx="805320" cy="5775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2001960" y="1471680"/>
            <a:ext cx="942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et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5800" y="3105000"/>
            <a:ext cx="90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lace-hol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61760" y="1370160"/>
            <a:ext cx="70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77080" y="3405240"/>
            <a:ext cx="94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et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9480" y="4932360"/>
            <a:ext cx="122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etThreads()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00800" y="2855880"/>
            <a:ext cx="7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dd(chi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70760" y="3591000"/>
            <a:ext cx="6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View Content: 3.2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7480" y="1951200"/>
            <a:ext cx="1493640" cy="315252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7800" y="320508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38760" y="2284560"/>
            <a:ext cx="2023920" cy="914400"/>
          </a:xfrm>
          <a:prstGeom prst="plus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ontent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16520" y="4060800"/>
            <a:ext cx="1868400" cy="91440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equest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1680" y="3205080"/>
            <a:ext cx="120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trieve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07080" y="2467080"/>
            <a:ext cx="12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odel Specific 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41440" y="3254400"/>
            <a:ext cx="621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dd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on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85280" y="509256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tChildre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4" idx="0"/>
            <a:endCxn id="156" idx="1"/>
          </p:cNvCxnSpPr>
          <p:nvPr/>
        </p:nvCxnSpPr>
        <p:spPr>
          <a:xfrm flipV="1">
            <a:off x="2563560" y="2741400"/>
            <a:ext cx="1375560" cy="786240"/>
          </a:xfrm>
          <a:prstGeom prst="curvedConnector5">
            <a:avLst>
              <a:gd name="adj1" fmla="val 56806"/>
              <a:gd name="adj2" fmla="val 49977"/>
              <a:gd name="adj3" fmla="val 568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4" idx="1"/>
            <a:endCxn id="157" idx="0"/>
          </p:cNvCxnSpPr>
          <p:nvPr/>
        </p:nvCxnSpPr>
        <p:spPr>
          <a:xfrm>
            <a:off x="2563920" y="3527280"/>
            <a:ext cx="23882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6" idx="2"/>
            <a:endCxn id="157" idx="0"/>
          </p:cNvCxnSpPr>
          <p:nvPr/>
        </p:nvCxnSpPr>
        <p:spPr>
          <a:xfrm>
            <a:off x="4951080" y="3198960"/>
            <a:ext cx="1080" cy="86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7" idx="1"/>
            <a:endCxn id="154" idx="2"/>
          </p:cNvCxnSpPr>
          <p:nvPr/>
        </p:nvCxnSpPr>
        <p:spPr>
          <a:xfrm flipV="1" rot="10800000">
            <a:off x="2004120" y="4516920"/>
            <a:ext cx="2012400" cy="586440"/>
          </a:xfrm>
          <a:prstGeom prst="curvedConnector5">
            <a:avLst>
              <a:gd name="adj1" fmla="val 31400"/>
              <a:gd name="adj2" fmla="val 69471"/>
              <a:gd name="adj3" fmla="val 31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3"/>
            <a:endCxn id="155" idx="0"/>
          </p:cNvCxnSpPr>
          <p:nvPr/>
        </p:nvCxnSpPr>
        <p:spPr>
          <a:xfrm>
            <a:off x="5962320" y="2741400"/>
            <a:ext cx="1724760" cy="4640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2) View Update: 3.1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7160" y="1914480"/>
            <a:ext cx="149400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6760" y="3236760"/>
            <a:ext cx="197676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288432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8280" y="2446200"/>
            <a:ext cx="1976400" cy="125748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tandard 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86360" y="2722680"/>
            <a:ext cx="1619280" cy="15350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vent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69" idx="4"/>
            <a:endCxn id="172" idx="1"/>
          </p:cNvCxnSpPr>
          <p:nvPr/>
        </p:nvCxnSpPr>
        <p:spPr>
          <a:xfrm flipH="1" flipV="1" rot="5400000">
            <a:off x="2484360" y="2891880"/>
            <a:ext cx="1003680" cy="2201040"/>
          </a:xfrm>
          <a:prstGeom prst="curvedConnector5">
            <a:avLst>
              <a:gd name="adj1" fmla="val -22784"/>
              <a:gd name="adj2" fmla="val 36217"/>
              <a:gd name="adj3" fmla="val -227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4"/>
            <a:endCxn id="172" idx="1"/>
          </p:cNvCxnSpPr>
          <p:nvPr/>
        </p:nvCxnSpPr>
        <p:spPr>
          <a:xfrm flipH="1" flipV="1" rot="5400000">
            <a:off x="2765160" y="2820600"/>
            <a:ext cx="651600" cy="1991520"/>
          </a:xfrm>
          <a:prstGeom prst="curvedConnector5">
            <a:avLst>
              <a:gd name="adj1" fmla="val -35102"/>
              <a:gd name="adj2" fmla="val 32363"/>
              <a:gd name="adj3" fmla="val -351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2" idx="1"/>
          </p:cNvCxnSpPr>
          <p:nvPr/>
        </p:nvCxnSpPr>
        <p:spPr>
          <a:xfrm flipH="1" flipV="1" rot="5400000">
            <a:off x="3065400" y="2682360"/>
            <a:ext cx="213480" cy="1829520"/>
          </a:xfrm>
          <a:prstGeom prst="curvedConnector5">
            <a:avLst>
              <a:gd name="adj1" fmla="val -147635"/>
              <a:gd name="adj2" fmla="val 27514"/>
              <a:gd name="adj3" fmla="val -1476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2797200" y="4681440"/>
            <a:ext cx="57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2" idx="3"/>
            <a:endCxn id="168" idx="0"/>
          </p:cNvCxnSpPr>
          <p:nvPr/>
        </p:nvCxnSpPr>
        <p:spPr>
          <a:xfrm>
            <a:off x="5705640" y="3490560"/>
            <a:ext cx="100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5882400" y="2933640"/>
            <a:ext cx="702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fresh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pd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lec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xpan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View Update: 3.2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4480" y="1704960"/>
            <a:ext cx="149400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1990800"/>
            <a:ext cx="1306440" cy="390600"/>
          </a:xfrm>
          <a:prstGeom prst="rect">
            <a:avLst/>
          </a:prstGeom>
          <a:solidFill>
            <a:srgbClr val="d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74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5680" y="1933560"/>
            <a:ext cx="83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48080" y="1805040"/>
            <a:ext cx="1809720" cy="76212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Update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0440" y="3079800"/>
            <a:ext cx="1976400" cy="12571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3"/>
            <a:endCxn id="185" idx="0"/>
          </p:cNvCxnSpPr>
          <p:nvPr/>
        </p:nvCxnSpPr>
        <p:spPr>
          <a:xfrm>
            <a:off x="5257440" y="2185560"/>
            <a:ext cx="1772280" cy="894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2"/>
            <a:endCxn id="184" idx="3"/>
          </p:cNvCxnSpPr>
          <p:nvPr/>
        </p:nvCxnSpPr>
        <p:spPr>
          <a:xfrm rot="10800000">
            <a:off x="5257080" y="2185200"/>
            <a:ext cx="783360" cy="1523160"/>
          </a:xfrm>
          <a:prstGeom prst="curvedConnector5">
            <a:avLst>
              <a:gd name="adj1" fmla="val 49885"/>
              <a:gd name="adj2" fmla="val 50000"/>
              <a:gd name="adj3" fmla="val 498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3"/>
            <a:endCxn id="184" idx="1"/>
          </p:cNvCxnSpPr>
          <p:nvPr/>
        </p:nvCxnSpPr>
        <p:spPr>
          <a:xfrm>
            <a:off x="2142720" y="2185560"/>
            <a:ext cx="1305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4" idx="2"/>
            <a:endCxn id="180" idx="0"/>
          </p:cNvCxnSpPr>
          <p:nvPr/>
        </p:nvCxnSpPr>
        <p:spPr>
          <a:xfrm rot="5400000">
            <a:off x="2937600" y="1866960"/>
            <a:ext cx="714960" cy="2115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705760" y="2664000"/>
            <a:ext cx="7020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fresh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pd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elec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xpan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6960" y="2106720"/>
            <a:ext cx="12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odel Specific 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85520" y="1844640"/>
            <a:ext cx="58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st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ser Interaction: 3.1 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6640" y="1990800"/>
            <a:ext cx="149364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8800" y="2276640"/>
            <a:ext cx="1306440" cy="390240"/>
          </a:xfrm>
          <a:prstGeom prst="rect">
            <a:avLst/>
          </a:prstGeom>
          <a:solidFill>
            <a:srgbClr val="d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09600" y="23004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4360" y="221940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98920" y="4400640"/>
            <a:ext cx="1976400" cy="1257120"/>
          </a:xfrm>
          <a:prstGeom prst="ellipse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tandard 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08520" y="1533600"/>
            <a:ext cx="3019320" cy="914400"/>
          </a:xfrm>
          <a:prstGeom prst="parallelogram">
            <a:avLst>
              <a:gd name="adj" fmla="val 82549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instanceof IStep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6640" y="2952720"/>
            <a:ext cx="2135160" cy="10382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ource 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3"/>
            <a:endCxn id="199" idx="5"/>
          </p:cNvCxnSpPr>
          <p:nvPr/>
        </p:nvCxnSpPr>
        <p:spPr>
          <a:xfrm flipV="1">
            <a:off x="2234880" y="1990440"/>
            <a:ext cx="2051640" cy="481680"/>
          </a:xfrm>
          <a:prstGeom prst="curvedConnector5">
            <a:avLst>
              <a:gd name="adj1" fmla="val 40786"/>
              <a:gd name="adj2" fmla="val 49962"/>
              <a:gd name="adj3" fmla="val 40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2"/>
            <a:endCxn id="200" idx="1"/>
          </p:cNvCxnSpPr>
          <p:nvPr/>
        </p:nvCxnSpPr>
        <p:spPr>
          <a:xfrm flipH="1" rot="16200000">
            <a:off x="2562120" y="1686960"/>
            <a:ext cx="805680" cy="276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0"/>
            <a:endCxn id="199" idx="3"/>
          </p:cNvCxnSpPr>
          <p:nvPr/>
        </p:nvCxnSpPr>
        <p:spPr>
          <a:xfrm flipH="1" flipV="1" rot="5400000">
            <a:off x="3387600" y="2747880"/>
            <a:ext cx="1953000" cy="1353240"/>
          </a:xfrm>
          <a:prstGeom prst="curvedConnector5">
            <a:avLst>
              <a:gd name="adj1" fmla="val 81231"/>
              <a:gd name="adj2" fmla="val 50000"/>
              <a:gd name="adj3" fmla="val 8123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" name=""/>
          <p:cNvCxnSpPr>
            <a:stCxn id="198" idx="0"/>
            <a:endCxn id="200" idx="2"/>
          </p:cNvCxnSpPr>
          <p:nvPr/>
        </p:nvCxnSpPr>
        <p:spPr>
          <a:xfrm flipH="1" flipV="1" rot="5400000">
            <a:off x="4346280" y="3331800"/>
            <a:ext cx="410400" cy="1728000"/>
          </a:xfrm>
          <a:prstGeom prst="curvedConnector5">
            <a:avLst>
              <a:gd name="adj1" fmla="val 49956"/>
              <a:gd name="adj2" fmla="val 49989"/>
              <a:gd name="adj3" fmla="val 4995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3726000" y="3894120"/>
            <a:ext cx="57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70640" y="1631880"/>
            <a:ext cx="1144800" cy="1631880"/>
          </a:xfrm>
          <a:prstGeom prst="can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040" y="4229280"/>
            <a:ext cx="2190600" cy="109512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0" idx="3"/>
            <a:endCxn id="206" idx="2"/>
          </p:cNvCxnSpPr>
          <p:nvPr/>
        </p:nvCxnSpPr>
        <p:spPr>
          <a:xfrm flipV="1">
            <a:off x="6481440" y="2447640"/>
            <a:ext cx="889560" cy="102456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0" idx="3"/>
            <a:endCxn id="207" idx="0"/>
          </p:cNvCxnSpPr>
          <p:nvPr/>
        </p:nvCxnSpPr>
        <p:spPr>
          <a:xfrm>
            <a:off x="6481800" y="3471840"/>
            <a:ext cx="1234080" cy="75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ser Interaction: 3.2 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6640" y="1990800"/>
            <a:ext cx="1493640" cy="3152880"/>
          </a:xfrm>
          <a:prstGeom prst="bevel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28800" y="2276640"/>
            <a:ext cx="1306440" cy="390240"/>
          </a:xfrm>
          <a:prstGeom prst="rect">
            <a:avLst/>
          </a:prstGeom>
          <a:solidFill>
            <a:srgbClr val="d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9600" y="23004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4360" y="221940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56120" y="1533600"/>
            <a:ext cx="3173760" cy="914400"/>
          </a:xfrm>
          <a:prstGeom prst="parallelogram">
            <a:avLst>
              <a:gd name="adj" fmla="val 86772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getAdapter IStep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8400" y="4624560"/>
            <a:ext cx="2822400" cy="10378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ource 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getAdapter ISourceDispl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2827440"/>
            <a:ext cx="2208240" cy="10382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bug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212" idx="3"/>
            <a:endCxn id="217" idx="1"/>
          </p:cNvCxnSpPr>
          <p:nvPr/>
        </p:nvCxnSpPr>
        <p:spPr>
          <a:xfrm>
            <a:off x="2234880" y="2471760"/>
            <a:ext cx="965880" cy="87552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620800" y="2235240"/>
            <a:ext cx="115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rovide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7" idx="0"/>
            <a:endCxn id="215" idx="5"/>
          </p:cNvCxnSpPr>
          <p:nvPr/>
        </p:nvCxnSpPr>
        <p:spPr>
          <a:xfrm flipH="1" flipV="1" rot="5400000">
            <a:off x="4860000" y="1434960"/>
            <a:ext cx="837360" cy="1948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7" idx="2"/>
            <a:endCxn id="216" idx="0"/>
          </p:cNvCxnSpPr>
          <p:nvPr/>
        </p:nvCxnSpPr>
        <p:spPr>
          <a:xfrm flipH="1" rot="16200000">
            <a:off x="4267080" y="3902760"/>
            <a:ext cx="759600" cy="68508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bug platform needs to replace all of its element specific and event specific code with a layer of adapters that other models con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ay the debug platform can interact with any implementation of a debugger based on these ada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many of the adapters are not debug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content, label, update and selection policies are independent of debug (but we own the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plan to maintain capability adapters with existing interfaces such as IStep, ITerminate, etc., except that implementors no longer need to fire events in underlying implemen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’s not clear that we need to replace these interfaces with equivalent ‘asynchronous request’ ada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at does this infrastructure enable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element hierarchies/content per element, p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ed labels per element, p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gable update policy per element, pe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gable sourc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rgettable debug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view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ing without the debug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ing simultaneous sessions in different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mplementation Plan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Milestone 3 (API draft) – Novembe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first draft and implementation of new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implementation of adapters for standard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models continue to work using the new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draft of migration documen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there should be no 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 describes how to use the new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2 Milestone 4 (API freeze) – December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 feedback from users of the new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e and solidify the API as required to converge with API 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thinking is to make the API’s internal for the 3.2 release to allow users of the Debug model time to prototype and provide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DT and Device Debugging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Reduce duplication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o these Platform Debug changes fit into your road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of DD participates build commercial products on top of CDT, so an ideal solution is for CDT to adapt to thes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 participates will provide use cases for the adaptable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panies work directly on top of the Platform, so DD will also need to concentrate on these use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www.eclipse.org/dsdp/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in’s full proposal: </a:t>
            </a: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downloads/download.php?file=/dsdp/dd/2005-10-12_Chicago_DD_FlexibleDebugPlatform.ppt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ntative) Dec 20 conference call to introduce the deployed changes to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DP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ebug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 &amp;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e’ve done so f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view of proposed changes in the Platform Debug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tasks on our road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anagemen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 &amp;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coming release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 for remote C/C++ application launch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ext Steps for Device Debugging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 on Platform Debug API changes and prototyping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-specific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:  on-chip registers, hardware cache, flash progra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s on needs of participating compan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-context debu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 and data views colorized and labeled for specific contexts being debugged simultaneous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ne and pin capabilities for making copies of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-specific break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ized instruction poi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:  </a:t>
            </a: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downloads/download.php?file=/dsdp/dd/2005-10-12_Chicago_DD_MultipleDebugContexts.pp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14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downloads/download.php?file=/dsdp/dd/2005-10-12_Chicago_DD_EclipsePinnedDebugViews.ppt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Debug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 by TI to collaborate on an open framework for a Debug Engine focused on embedded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318240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arget Management Projec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M: Servic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7280" y="1523520"/>
            <a:ext cx="817416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services to be provided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-Awa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File System (for File down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mappings for cross-mounted fil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Process Explorer (Query target info, Kernel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Module 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 that do not necessarily need an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sole (Serial, TCP/IP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 / Reboot (Start and Stop C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 download of arbitrary images (e.g. via JT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ut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ugger Laun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pluggable services to be contributed by ven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nt to autodetect servic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tep 1: IBM RS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Remote System Explorer (R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work and product for working on remot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ping to IBM partners since 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 to go Open Source under DSDP-TM in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SE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ndardiz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remote systems (based on EM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dealing with remote systems and sub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gable connec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“Datastore” communication works on mos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fined views, reusable widgets and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developer.ibm.com/isv/rational/remote_system_explor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SE Screensho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674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tep 2: Integrate with CD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device software development is done i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big players have products based on CD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ng DSDP-TM with CDT provides a basis for many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/ RSE Views and Services can be added as plug-ins to any Eclipse based product without further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es require integratio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vantages for C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s can be team-shared and used in multiple Launches /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Application” is cleaner than “Local Application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mote setting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d DSDP-TM services and actions can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first version, only “Start debugger” will be 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w Launch remains optional (shown only if DSDP-TM is instal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553080" y="3352680"/>
            <a:ext cx="1905120" cy="16765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2895480"/>
            <a:ext cx="1295280" cy="2133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752480"/>
            <a:ext cx="7467480" cy="762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lug-in dependenci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5410080"/>
            <a:ext cx="74674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3352680"/>
            <a:ext cx="3962520" cy="16765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9640" y="5410080"/>
            <a:ext cx="1649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lipse 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9360" y="3352680"/>
            <a:ext cx="1555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752480"/>
            <a:ext cx="982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3886200"/>
            <a:ext cx="838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3886200"/>
            <a:ext cx="76212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4648320"/>
            <a:ext cx="342900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odels (EMF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886200"/>
            <a:ext cx="91440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4267080"/>
            <a:ext cx="342900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(Remote Files, Processes, Shel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886200"/>
            <a:ext cx="144792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able Wid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057400"/>
            <a:ext cx="426744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-specific debuggers, connection types, services,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2895480"/>
            <a:ext cx="4800600" cy="3373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al) CDT “Remote Application” Laun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52720" y="3352680"/>
            <a:ext cx="1872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plug-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4267080"/>
            <a:ext cx="152424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3886200"/>
            <a:ext cx="1524240" cy="27648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248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here should the integration live?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/C++ Application” Launch depends on DSDP and C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: Target-specific part (launch a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: Tool-specific part (select project, build, launch shortc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gers based on CDI also depend on C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ink the integration should be shipped with CDT, because DSDP-TM is considered base technology for many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T, PTP, TPTP, … may also want to use DSDP-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DP-TM cannot ship integrations for all of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DP-TM will provide public interfaces for all functionality needed by th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ome DSDP-TM Interface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560" y="1775880"/>
            <a:ext cx="8210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e shown below is just for example. Finalization of interfaces is pending RSE to be rel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 ITargetUI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SelectWidget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makeTargetSelectWidget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mposite parentContro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ConnectionReference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howTargetSelectDialog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 ITargetSer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Connection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etConnectionData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ITargetConnectionReference re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connect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ITargetConnection tc, IProgressMonitor progres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Action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etAvailableAction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ITargetConnection t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face ITargetModel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TargetConnectionReference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makeTargetConnectionReference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String re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590920"/>
            <a:ext cx="3962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Future Directions of DSDP-TM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: Define a Framework for even more modular connection chains to the target than RSE provide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plan to use the Eclipse Communication Framework (EC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ore protocol support (ssh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auto-detecting available services and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Actions and Launch Sequ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Remote Launch” to be composed of arbitrary actions (configure, download, reset, start, …) contributed via extens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nches are like a “script” to run against one or mor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Groups for controlling multiple targets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work for Board Lab Management and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SDP: D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vic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ftwar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velopme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latform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58920" y="2160720"/>
          <a:ext cx="8403840" cy="2790720"/>
        </p:xfrm>
        <a:graphic>
          <a:graphicData uri="http://schemas.openxmlformats.org/drawingml/2006/table">
            <a:tbl>
              <a:tblPr/>
              <a:tblGrid>
                <a:gridCol w="3753360"/>
                <a:gridCol w="465048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”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Software De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(changing!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abstraction through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hardware (DSP, Multi-core, FPGA, …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 ba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vendors – many connection sche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d targets / access restric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tunnels for deployed targe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50920" y="5334120"/>
            <a:ext cx="8435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Software Vendors want to plug-in solutions for their specific area of experti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a highly modular, pluggable framework for 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449360"/>
            <a:ext cx="8469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:  Develop framework and exemplary tools for device software development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roject Plan / Timeline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23520"/>
            <a:ext cx="80517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1 (Janu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E goes Open Source! – Release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2 (With Eclipse 3.2, End of Ju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T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Definition &amp; Selection, “Remote Debug” Launch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s based target connections (FTP, Telnet, ssh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” and “Run” Launch actions based on abov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- Mileston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onnectors for HW Debuggers (Preconfigured Connection Typ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Model for HW Debugging (complex connector set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Launch 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plumbing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 for autode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rs for Target access control  (shared board lab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tunneling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ly define DSDP-TM interfaces to be used by C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ay require RSE to go Open Source bef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RS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“Remote Laun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y build infrastructure to ship “Remote Launch” as part of C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can “Remote Launch” go into the CDT release tra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nvol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hone Conference Nov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Face-to-face meeting Feb.21-23,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 at EclipseCon (Mar.20-23, Santa Cla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dsdp/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SDP Projects (www.eclipse.org/dsdp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Debugging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s: Drive extensions of the Platform and CDT debug interfaces to make them more applicable for embedded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: Explore changes in debug model to make the model more asynchronous for increased debugger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s: Explore extensions to Platform and CDT debug views to provide additional functionality for embedded 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Management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 model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, processors, cores, scan chains, processes, thre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, remote or deplo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, UDP, Serial, various agents, ICE boxe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thei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, run, debug, query information, reset, FLASH utili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 for configuring services, and UI-less delegate for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Java Tools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I Design, Application Creation, Code Generation, Localization, Packaging, Deployment, and Management of Mobile Java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ompanies active in DSDP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76240" y="2944800"/>
            <a:ext cx="1600200" cy="698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9530" t="0" r="23812" b="0"/>
          <a:stretch/>
        </p:blipFill>
        <p:spPr>
          <a:xfrm>
            <a:off x="2552760" y="4222800"/>
            <a:ext cx="1143000" cy="88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62440" y="1730520"/>
            <a:ext cx="1295640" cy="61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24578" t="0" r="29319" b="0"/>
          <a:stretch/>
        </p:blipFill>
        <p:spPr>
          <a:xfrm>
            <a:off x="6667560" y="1806480"/>
            <a:ext cx="1143000" cy="58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0" t="0" r="34799" b="0"/>
          <a:stretch/>
        </p:blipFill>
        <p:spPr>
          <a:xfrm>
            <a:off x="5219640" y="3025800"/>
            <a:ext cx="137160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52560" y="425772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5905440" y="440208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647640" y="1730520"/>
            <a:ext cx="3733920" cy="69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048440" y="2873520"/>
            <a:ext cx="1317600" cy="853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rcRect l="0" t="0" r="34839" b="0"/>
          <a:stretch/>
        </p:blipFill>
        <p:spPr>
          <a:xfrm>
            <a:off x="2857680" y="2949480"/>
            <a:ext cx="1904760" cy="70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rcRect l="0" t="0" r="7228" b="38542"/>
          <a:stretch/>
        </p:blipFill>
        <p:spPr>
          <a:xfrm>
            <a:off x="4000680" y="4294080"/>
            <a:ext cx="1600200" cy="770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4278240" y="5376960"/>
            <a:ext cx="121932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6365880" y="5433840"/>
            <a:ext cx="1859040" cy="62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3086280" y="5462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1036800" y="5573880"/>
            <a:ext cx="11048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6000" y="3104640"/>
            <a:ext cx="7559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vice Debugging Projec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wards A Flexible Debug Platform (3.2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of the World in 3.1 an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bug model provides implementations of specific interfaces (IDebugTarget, etc), and fires debug events in order for the following features to wor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upd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 upd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Loo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bug view is the single source of the ‘active debug context’ and must be open to drive a debug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bles view (as others) is hard wired to the selection in the Debug view, and only responds to IStackFrame sele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 (step, terminate, etc.), are hard wired to the selection in the Debug view, and respond to deb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quests from the Communit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77588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DP and PTP projects found the debug platform does not meet their needs and expressed the need for these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debug element hier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uggable view update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 interactions between UI and debug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view wiring (e.g. input to variables view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debug multiple sessions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s resulted in groups being formed to investigate solutions to each of the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turns out that all these features are interre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A flexible hierarchy is only useful if there is a way to upd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640" y="770040"/>
            <a:ext cx="755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he Proposed Solution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erarchy is based on IDebugTarget/IThread/IStackFram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update policy is based on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is synchron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wiring is based on stack fram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lookup is based on stack fram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al:  Support arbitrary debug architectures and implementations of debugg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bugger implementation provides a layer of adapters to interact with the platform’s basic views and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Content:  Content and label adapters fo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Update:  Update policy adapters for 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Interaction:  Capability adapters for actions, Source display adap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bug platform provides adapters for implementations of the standar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models continue to work; new models have a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ly the platform provides services for debug contex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ys to retrieve and provide the active debug context that drives a debu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>Darin Wright and Bjorn Freeman-Benson</dc:creator>
  <dc:description/>
  <dc:language>en-US</dc:language>
  <cp:lastModifiedBy>Doug G. Gaff</cp:lastModifiedBy>
  <dcterms:modified xsi:type="dcterms:W3CDTF">2005-10-25T17:04:28Z</dcterms:modified>
  <cp:revision>616</cp:revision>
  <dc:subject/>
  <dc:title>The Eclipse Debug Framework</dc:title>
</cp:coreProperties>
</file>