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3EBC-B491-4118-A4F3-EE39CC996C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A4B6-A276-4D2E-925E-C835F36767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497F-610E-4FC7-AE9F-5F85078DF2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8E93-820D-47F9-BFDD-720587A009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ABE3-95EE-4D4A-BC1D-333291BFF3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CF23-E042-4EFB-8FC7-D707186795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E62E-115C-43E3-A02F-B1A2B17B8E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7B21-D9D9-4A78-9B32-E52E570E43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0A67-F348-4A10-B7A9-FCBA383514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60E7-53A0-4043-A07C-DF6BC56795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8D83-D6FD-4B0E-8B7D-C9CE95E4EF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8240-4503-433C-AF93-EF853D3E9F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9280" y="659772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195040" y="6477120"/>
            <a:ext cx="1105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EA47-12EC-4B38-B43D-85456B3419B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14560" y="655308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ldNum" idx="1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42FA-2757-4998-AFBA-52A894008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638964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440" y="661356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SDP - Target Mana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Oberhuber, Wind Riv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 Website (Icon + Content)  - Martin, Do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T presentation – Martin, Ewa, John, Daymon (Add legend to Base Ar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ssh / team people – David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E Docs, Sample, Release – David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nch Actions – Initial Design – Mar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enarios for various environments – Every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 schema / example for Register Files &amp; Boardfiles – HW Debug exp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HW Folks – George (A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T Meeting Ottawa Oct. 25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Phone Conf. Monday Nov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F2F meeting Feb 21-23 (DD+TM combined), Toro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Con San Jose, Mar. 20-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 3.2 train: Platform – April; 3.2 – End of 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API draft – MS3 (Nov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API freeze – MS4 (Dec.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T 3.1 train: with 3.2 – End of 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From the DSDP Websit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arget Managemen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s data models and frame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a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s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argets, processors, cores, processes, threads; local, remote or deploy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 Management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wnloa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ftware and 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ingle or multiple configuratio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ing and stopping co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bugging processes and threa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ing target inform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nfigure and Manage”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fferent hardware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fferent connec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groups of targets to execute common operation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access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arget configurations to be shar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plug in wizards and property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common data mode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SE Conne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1600200"/>
          <a:ext cx="7348680" cy="3352680"/>
        </p:xfrm>
        <a:graphic>
          <a:graphicData uri="http://schemas.openxmlformats.org/drawingml/2006/table">
            <a:tbl>
              <a:tblPr/>
              <a:tblGrid>
                <a:gridCol w="3675240"/>
                <a:gridCol w="367344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 Software D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” Software D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(changing! E.g. Multiplatfor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connection sche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ly TCP/I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, unreliable connec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le TCP/I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vendors – need to be modul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s ba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d targets / access restric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tunnels for deployed targe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838080" y="5562720"/>
            <a:ext cx="7620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a pluggable framework for connectivity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n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523520"/>
            <a:ext cx="734868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 services to be provided incl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-Awar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File System (for File down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 mappings for cross-mounted fil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Process Explorer (Query target info, Kernel Obje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rnel Module Down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 that do not necessarily need an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Console (Serial, TCP/IP,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 / Reboot (Start and Stop Co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 download of arbitrary images (e.g. via JT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ut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ugger Laun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pluggable service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SE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autodetect servic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2514600"/>
            <a:ext cx="7467480" cy="5335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SDP-TM Base Architectur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876920"/>
            <a:ext cx="7467480" cy="9144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124080"/>
            <a:ext cx="7467480" cy="1676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523880"/>
            <a:ext cx="7467480" cy="9144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876920"/>
            <a:ext cx="1320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Mod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89280" y="3124080"/>
            <a:ext cx="1288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89640" y="1523880"/>
            <a:ext cx="960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057400"/>
            <a:ext cx="213336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Fil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360" y="2514600"/>
            <a:ext cx="2066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efined 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057400"/>
            <a:ext cx="213336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Process L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1676520"/>
            <a:ext cx="3505320" cy="27648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(Download, Reset, Debug, Flash, 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666880"/>
            <a:ext cx="83844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2666880"/>
            <a:ext cx="83808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4419720"/>
            <a:ext cx="4648320" cy="2764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5410080"/>
            <a:ext cx="1904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410080"/>
            <a:ext cx="1904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410080"/>
            <a:ext cx="1904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Sh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038480"/>
            <a:ext cx="2133360" cy="276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P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038480"/>
            <a:ext cx="2133720" cy="276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038480"/>
            <a:ext cx="2133720" cy="2764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de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2057400"/>
            <a:ext cx="213336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Sh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1676520"/>
            <a:ext cx="1905120" cy="276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Sequenc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657600"/>
            <a:ext cx="4648320" cy="276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Configuration (Plumb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276720"/>
            <a:ext cx="464832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efined connection types (connector cha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029200"/>
            <a:ext cx="1676160" cy="276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5029200"/>
            <a:ext cx="1676520" cy="276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029200"/>
            <a:ext cx="1676520" cy="27648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2666880"/>
            <a:ext cx="14475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able Wid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2960" y="6019920"/>
            <a:ext cx="89679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:         Existing components in RSE,         Design TBD,          Analysis TBD,        Extension Point,        Fixed implem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6095880"/>
            <a:ext cx="95400" cy="1047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6095880"/>
            <a:ext cx="95400" cy="1047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6095880"/>
            <a:ext cx="95400" cy="104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6095880"/>
            <a:ext cx="95040" cy="1047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6095880"/>
            <a:ext cx="95400" cy="10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hat can we offer CDT?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 as an optional add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s: Connections, Processes, Sh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: Download, Reboot, Run, 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ebugger integration it is harder but we can also prov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connection configuration for existing debu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selection, download actions, launch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n’t want a dependency to CDT in our launch (e.g. project selection, build-before-lau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s consist of 2 parts – Tool-specific and Target-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T Launches to provide extension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ur connection selection, download actions, debugger laun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DT to register Tool-specific features of Launch as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hat can we do when?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and Analysis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 Use Cases /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nnection Wizard and Properties use cases /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T Integration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Actions: Interface and extension point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odel for “open” target definitions, targe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current RSE EMF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RSE Javadoc to work on model until RSE i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 extension point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Type (aka Connector Chain Template) extension point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detec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hat can we do when? (Continued)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1 (Janu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E unleashed! – Release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2 (With Eclipse 3.2, End of Ju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T Integration – Release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efinition &amp; Selection, “Remote Debug” Launch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based target connections (FTP, Telnet, ssh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” and “Run” Launch actions based on abo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Connectors for HW Debuggers (Preconfigured Connection Type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Model for HW Debugging (complex connector set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Launch 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plumbing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for autode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rs for Target access control  (shared board la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tunneling conn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9:44:13Z</dcterms:created>
  <dc:creator>Ian Skerrett</dc:creator>
  <dc:description/>
  <dc:language>en-US</dc:language>
  <cp:lastModifiedBy>Martin Oberhuber</cp:lastModifiedBy>
  <dcterms:modified xsi:type="dcterms:W3CDTF">2005-10-17T17:51:20Z</dcterms:modified>
  <cp:revision>275</cp:revision>
  <dc:subject/>
  <dc:title>Slide 1</dc:title>
</cp:coreProperties>
</file>