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C193-8B82-4F83-A999-E78D2DC62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791F-DCE5-4FF2-9F00-37DFEDBA6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B692-2E2A-491F-A334-67C707126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A99B-CD63-433E-BA3A-2C8DC2647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8512-B3CE-4BEA-8546-4151BB8CE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A0E9-B822-43EC-A660-EB9C6BAD7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62A1-0165-4AEB-AD4F-2A8ED18C3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B2CF-3D70-46FE-AA34-F86301511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14ED-D504-47F4-84E6-3F04C732F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1A3C-1E05-438C-A11C-A3DB87246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31B6-2E7B-40E2-9E33-D696E71AD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7459-91FA-4401-A2BF-572F91D47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124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7052-5391-4C90-B516-B867F70CCFF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164360" cy="612720"/>
            <a:chOff x="1219320" y="457200"/>
            <a:chExt cx="7164360" cy="612720"/>
          </a:xfrm>
        </p:grpSpPr>
        <p:sp>
          <p:nvSpPr>
            <p:cNvPr id="6" name=""/>
            <p:cNvSpPr/>
            <p:nvPr/>
          </p:nvSpPr>
          <p:spPr>
            <a:xfrm>
              <a:off x="8217000" y="45720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0819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83600" y="60336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E623-C62F-411F-89E3-0C158267FF54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038480" y="658332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543800" y="6305400"/>
            <a:ext cx="14288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1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dt" idx="2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9105-B82B-4D80-9300-891AD1F27E2A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0400" y="658332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543800" y="6305400"/>
            <a:ext cx="1428840" cy="55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clipse Target Connection Adapte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s and Use Cas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Lach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47´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E527FB6-7287-46F8-A002-A71DC7F2EC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219320" y="5791320"/>
            <a:ext cx="5638320" cy="307080"/>
            <a:chOff x="1219320" y="5791320"/>
            <a:chExt cx="5638320" cy="307080"/>
          </a:xfrm>
        </p:grpSpPr>
        <p:sp>
          <p:nvSpPr>
            <p:cNvPr id="100" name=""/>
            <p:cNvSpPr/>
            <p:nvPr/>
          </p:nvSpPr>
          <p:spPr>
            <a:xfrm>
              <a:off x="1600200" y="5791320"/>
              <a:ext cx="52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re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59432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219320" y="5991120"/>
            <a:ext cx="5790600" cy="307080"/>
            <a:chOff x="1219320" y="5991120"/>
            <a:chExt cx="5790600" cy="307080"/>
          </a:xfrm>
        </p:grpSpPr>
        <p:sp>
          <p:nvSpPr>
            <p:cNvPr id="103" name=""/>
            <p:cNvSpPr/>
            <p:nvPr/>
          </p:nvSpPr>
          <p:spPr>
            <a:xfrm>
              <a:off x="1600200" y="5991120"/>
              <a:ext cx="54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Core 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6143760"/>
              <a:ext cx="380880" cy="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19320" y="6172200"/>
            <a:ext cx="4876200" cy="307080"/>
            <a:chOff x="1219320" y="6172200"/>
            <a:chExt cx="4876200" cy="307080"/>
          </a:xfrm>
        </p:grpSpPr>
        <p:sp>
          <p:nvSpPr>
            <p:cNvPr id="106" name=""/>
            <p:cNvSpPr/>
            <p:nvPr/>
          </p:nvSpPr>
          <p:spPr>
            <a:xfrm>
              <a:off x="1600200" y="6172200"/>
              <a:ext cx="44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rocessor 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6324480"/>
              <a:ext cx="3808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219320"/>
            <a:ext cx="4572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 vendor supplies connection device &amp; ECL connector plug-in for a particular (group/familiy of) Si/board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 vendor supplies a debug to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vendor supplies a debug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FLASH programming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1676520"/>
            <a:ext cx="5400720" cy="3809880"/>
            <a:chOff x="380880" y="1676520"/>
            <a:chExt cx="5400720" cy="3809880"/>
          </a:xfrm>
        </p:grpSpPr>
        <p:sp>
          <p:nvSpPr>
            <p:cNvPr id="111" name=""/>
            <p:cNvSpPr/>
            <p:nvPr/>
          </p:nvSpPr>
          <p:spPr>
            <a:xfrm>
              <a:off x="1285920" y="2471760"/>
              <a:ext cx="285264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05440" y="1938240"/>
              <a:ext cx="30456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505320"/>
              <a:ext cx="213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19440" y="4071960"/>
              <a:ext cx="182880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43280" y="4395960"/>
              <a:ext cx="761760" cy="333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3820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5080" y="3171960"/>
              <a:ext cx="838080" cy="25704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81000" y="1938240"/>
              <a:ext cx="30492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364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57520" y="4224240"/>
              <a:ext cx="15228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96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28720" y="232416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8720" y="277668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81200" y="277668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81200" y="3270240"/>
              <a:ext cx="85680" cy="1587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97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92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48240" y="41482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rget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16765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95600" y="22431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85760" y="262404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86120" y="262404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5920" y="247176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8612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28920" y="16812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48040" y="445284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52600" y="4452840"/>
              <a:ext cx="228600" cy="2286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1040" y="4452840"/>
              <a:ext cx="2286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157480" y="428616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2800" y="4267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371760"/>
              <a:ext cx="128520" cy="748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86" y="0"/>
                  </a:move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18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4200" y="422424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5800" y="42102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0320" y="231948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0320" y="2624040"/>
              <a:ext cx="5335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33840" y="262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3840" y="2624040"/>
              <a:ext cx="9360" cy="804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30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504880" y="4376880"/>
              <a:ext cx="2286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190240" y="5477040"/>
              <a:ext cx="190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3840" y="4300560"/>
              <a:ext cx="0" cy="763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5240" y="4376880"/>
              <a:ext cx="0" cy="75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4016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9244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4472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43040" y="3429000"/>
              <a:ext cx="381240" cy="152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3200400"/>
              <a:ext cx="1752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or 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2912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2743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lipse 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14560" y="3505320"/>
              <a:ext cx="304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133720" y="32763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133720" y="2971800"/>
            <a:ext cx="1143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212E-080D-4739-B087-338C5EAF3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219320" y="5791320"/>
            <a:ext cx="5638320" cy="307080"/>
            <a:chOff x="1219320" y="5791320"/>
            <a:chExt cx="5638320" cy="307080"/>
          </a:xfrm>
        </p:grpSpPr>
        <p:sp>
          <p:nvSpPr>
            <p:cNvPr id="164" name=""/>
            <p:cNvSpPr/>
            <p:nvPr/>
          </p:nvSpPr>
          <p:spPr>
            <a:xfrm>
              <a:off x="1600200" y="5791320"/>
              <a:ext cx="52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re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59432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19320" y="5991120"/>
            <a:ext cx="5790600" cy="307080"/>
            <a:chOff x="1219320" y="5991120"/>
            <a:chExt cx="5790600" cy="307080"/>
          </a:xfrm>
        </p:grpSpPr>
        <p:sp>
          <p:nvSpPr>
            <p:cNvPr id="167" name=""/>
            <p:cNvSpPr/>
            <p:nvPr/>
          </p:nvSpPr>
          <p:spPr>
            <a:xfrm>
              <a:off x="1600200" y="5991120"/>
              <a:ext cx="54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Core 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143760"/>
              <a:ext cx="380880" cy="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219320" y="6172200"/>
            <a:ext cx="4876200" cy="307080"/>
            <a:chOff x="1219320" y="6172200"/>
            <a:chExt cx="4876200" cy="307080"/>
          </a:xfrm>
        </p:grpSpPr>
        <p:sp>
          <p:nvSpPr>
            <p:cNvPr id="170" name=""/>
            <p:cNvSpPr/>
            <p:nvPr/>
          </p:nvSpPr>
          <p:spPr>
            <a:xfrm>
              <a:off x="1600200" y="6172200"/>
              <a:ext cx="44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rocessor 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9320" y="6324480"/>
              <a:ext cx="3808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219320"/>
            <a:ext cx="45720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 vendor supplies HW connection device, ECL connector and debug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add-value product using tools vendor’s connection to HW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/board vendor supplies specific HW related tools using tools vendor’s connection to HW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vendor supplies OS browsers as add-on using tools vendor’s connection to HW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0880" y="1676520"/>
            <a:ext cx="5400720" cy="3809880"/>
            <a:chOff x="380880" y="1676520"/>
            <a:chExt cx="5400720" cy="3809880"/>
          </a:xfrm>
        </p:grpSpPr>
        <p:sp>
          <p:nvSpPr>
            <p:cNvPr id="175" name=""/>
            <p:cNvSpPr/>
            <p:nvPr/>
          </p:nvSpPr>
          <p:spPr>
            <a:xfrm>
              <a:off x="1285920" y="2471760"/>
              <a:ext cx="285264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05440" y="1938240"/>
              <a:ext cx="30456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3505320"/>
              <a:ext cx="213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19440" y="4071960"/>
              <a:ext cx="182880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3280" y="4395960"/>
              <a:ext cx="761760" cy="333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820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5080" y="3171960"/>
              <a:ext cx="838080" cy="25704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000" y="1938240"/>
              <a:ext cx="30492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3364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57520" y="4224240"/>
              <a:ext cx="15228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796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28720" y="232416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28720" y="277668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1200" y="277668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81200" y="3270240"/>
              <a:ext cx="85680" cy="1587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97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192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48240" y="41482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rget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16765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95600" y="22431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885760" y="262404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6120" y="262404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85920" y="247176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8612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8920" y="16812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8040" y="445284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52600" y="4452840"/>
              <a:ext cx="228600" cy="2286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91040" y="4452840"/>
              <a:ext cx="2286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57480" y="428616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2800" y="4267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3371760"/>
              <a:ext cx="128520" cy="748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86" y="0"/>
                  </a:move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718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24200" y="422424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95800" y="42102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00320" y="231948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0320" y="2624040"/>
              <a:ext cx="5335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3840" y="262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840" y="2624040"/>
              <a:ext cx="9360" cy="804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30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504880" y="4376880"/>
              <a:ext cx="2286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190240" y="5477040"/>
              <a:ext cx="190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33840" y="4300560"/>
              <a:ext cx="0" cy="763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05240" y="4376880"/>
              <a:ext cx="0" cy="75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4016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244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72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43040" y="3429000"/>
              <a:ext cx="381240" cy="152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3200400"/>
              <a:ext cx="1752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or 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2912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2743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lipse 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14560" y="3505320"/>
              <a:ext cx="304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133720" y="32763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71600" y="1600200"/>
            <a:ext cx="1828800" cy="2057400"/>
            <a:chOff x="1371600" y="1600200"/>
            <a:chExt cx="1828800" cy="2057400"/>
          </a:xfrm>
        </p:grpSpPr>
        <p:sp>
          <p:nvSpPr>
            <p:cNvPr id="227" name=""/>
            <p:cNvSpPr/>
            <p:nvPr/>
          </p:nvSpPr>
          <p:spPr>
            <a:xfrm>
              <a:off x="1371600" y="16002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1600" y="29718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7400" y="29718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4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00400" y="297144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666880" y="297180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66880" y="16002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1600" y="16002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FD5A-1E1D-4607-9340-6E435D008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219320" y="5791320"/>
            <a:ext cx="5638320" cy="307080"/>
            <a:chOff x="1219320" y="5791320"/>
            <a:chExt cx="5638320" cy="307080"/>
          </a:xfrm>
        </p:grpSpPr>
        <p:sp>
          <p:nvSpPr>
            <p:cNvPr id="236" name=""/>
            <p:cNvSpPr/>
            <p:nvPr/>
          </p:nvSpPr>
          <p:spPr>
            <a:xfrm>
              <a:off x="1600200" y="5791320"/>
              <a:ext cx="52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re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9320" y="59432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19320" y="5991120"/>
            <a:ext cx="5790600" cy="307080"/>
            <a:chOff x="1219320" y="5991120"/>
            <a:chExt cx="5790600" cy="307080"/>
          </a:xfrm>
        </p:grpSpPr>
        <p:sp>
          <p:nvSpPr>
            <p:cNvPr id="239" name=""/>
            <p:cNvSpPr/>
            <p:nvPr/>
          </p:nvSpPr>
          <p:spPr>
            <a:xfrm>
              <a:off x="1600200" y="5991120"/>
              <a:ext cx="54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Core 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6143760"/>
              <a:ext cx="380880" cy="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19320" y="6172200"/>
            <a:ext cx="4876200" cy="307080"/>
            <a:chOff x="1219320" y="6172200"/>
            <a:chExt cx="4876200" cy="307080"/>
          </a:xfrm>
        </p:grpSpPr>
        <p:sp>
          <p:nvSpPr>
            <p:cNvPr id="242" name=""/>
            <p:cNvSpPr/>
            <p:nvPr/>
          </p:nvSpPr>
          <p:spPr>
            <a:xfrm>
              <a:off x="1600200" y="6172200"/>
              <a:ext cx="44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rocessor 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9320" y="6324480"/>
              <a:ext cx="3808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1219320"/>
            <a:ext cx="4572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vendor supplies  ECL connector and target debug monitor using standard IT HW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SW debug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/board vendor supplies ports of OSV’s target debug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0880" y="1676520"/>
            <a:ext cx="5400720" cy="3809880"/>
            <a:chOff x="380880" y="1676520"/>
            <a:chExt cx="5400720" cy="3809880"/>
          </a:xfrm>
        </p:grpSpPr>
        <p:sp>
          <p:nvSpPr>
            <p:cNvPr id="247" name=""/>
            <p:cNvSpPr/>
            <p:nvPr/>
          </p:nvSpPr>
          <p:spPr>
            <a:xfrm>
              <a:off x="1285920" y="2471760"/>
              <a:ext cx="285264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05440" y="1938240"/>
              <a:ext cx="30456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3505320"/>
              <a:ext cx="213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9440" y="4071960"/>
              <a:ext cx="182880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43280" y="4395960"/>
              <a:ext cx="761760" cy="333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3820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05080" y="3171960"/>
              <a:ext cx="838080" cy="25704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81000" y="1938240"/>
              <a:ext cx="30492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3364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57520" y="4224240"/>
              <a:ext cx="15228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96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28720" y="232416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8720" y="277668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81200" y="277668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81200" y="3270240"/>
              <a:ext cx="85680" cy="1587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97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92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8240" y="41482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rget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16765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95600" y="22431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885760" y="262404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6120" y="262404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85920" y="247176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8612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28920" y="16812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8040" y="445284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2600" y="4452840"/>
              <a:ext cx="228600" cy="2286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91040" y="4452840"/>
              <a:ext cx="2286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57480" y="428616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52800" y="4267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3371760"/>
              <a:ext cx="128520" cy="748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86" y="0"/>
                  </a:move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718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24200" y="422424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95800" y="42102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0320" y="231948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0320" y="2624040"/>
              <a:ext cx="5335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33840" y="262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33840" y="2624040"/>
              <a:ext cx="9360" cy="804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430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504880" y="4376880"/>
              <a:ext cx="2286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190240" y="5477040"/>
              <a:ext cx="190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33840" y="4300560"/>
              <a:ext cx="0" cy="763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5240" y="4376880"/>
              <a:ext cx="0" cy="75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4016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9244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4472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43040" y="3429000"/>
              <a:ext cx="381240" cy="152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3200400"/>
              <a:ext cx="1752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or 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2912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8120" y="2743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lipse 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14560" y="3505320"/>
              <a:ext cx="304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133720" y="32763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133720" y="3048120"/>
            <a:ext cx="1143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40840" y="380988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arget Debug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429000" y="39621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B095-04B2-4375-9257-CC1D896FD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19320" y="5791320"/>
            <a:ext cx="5790600" cy="687960"/>
            <a:chOff x="1219320" y="5791320"/>
            <a:chExt cx="5790600" cy="687960"/>
          </a:xfrm>
        </p:grpSpPr>
        <p:grpSp>
          <p:nvGrpSpPr>
            <p:cNvPr id="303" name=""/>
            <p:cNvGrpSpPr/>
            <p:nvPr/>
          </p:nvGrpSpPr>
          <p:grpSpPr>
            <a:xfrm>
              <a:off x="1219320" y="5791320"/>
              <a:ext cx="5638320" cy="307080"/>
              <a:chOff x="1219320" y="5791320"/>
              <a:chExt cx="5638320" cy="307080"/>
            </a:xfrm>
          </p:grpSpPr>
          <p:sp>
            <p:nvSpPr>
              <p:cNvPr id="304" name=""/>
              <p:cNvSpPr/>
              <p:nvPr/>
            </p:nvSpPr>
            <p:spPr>
              <a:xfrm>
                <a:off x="1600200" y="5791320"/>
                <a:ext cx="525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k to 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Processor 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/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Core X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using connector channel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19320" y="594324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19320" y="5991120"/>
              <a:ext cx="5790600" cy="307080"/>
              <a:chOff x="1219320" y="5991120"/>
              <a:chExt cx="5790600" cy="307080"/>
            </a:xfrm>
          </p:grpSpPr>
          <p:sp>
            <p:nvSpPr>
              <p:cNvPr id="307" name=""/>
              <p:cNvSpPr/>
              <p:nvPr/>
            </p:nvSpPr>
            <p:spPr>
              <a:xfrm>
                <a:off x="1600200" y="5991120"/>
                <a:ext cx="54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k to 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Processor 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/ </a:t>
                </a:r>
                <a:r>
                  <a:rPr b="1" lang="en-US" sz="1400" spc="-1" strike="noStrike">
                    <a:solidFill>
                      <a:srgbClr val="99cc00"/>
                    </a:solidFill>
                    <a:latin typeface="Arial"/>
                  </a:rPr>
                  <a:t>Core 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using connector channel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19320" y="6143760"/>
                <a:ext cx="380880" cy="0"/>
              </a:xfrm>
              <a:prstGeom prst="line">
                <a:avLst/>
              </a:prstGeom>
              <a:ln w="28440">
                <a:solidFill>
                  <a:srgbClr val="66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6172200"/>
              <a:ext cx="4876200" cy="307080"/>
              <a:chOff x="1219320" y="6172200"/>
              <a:chExt cx="4876200" cy="307080"/>
            </a:xfrm>
          </p:grpSpPr>
          <p:sp>
            <p:nvSpPr>
              <p:cNvPr id="310" name=""/>
              <p:cNvSpPr/>
              <p:nvPr/>
            </p:nvSpPr>
            <p:spPr>
              <a:xfrm>
                <a:off x="1600200" y="6172200"/>
                <a:ext cx="449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k to 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Processor 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using connector channel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6324480"/>
                <a:ext cx="380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1219320"/>
            <a:ext cx="4572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vendor supplies board, connection device &amp; ECL 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a debug tool for standard core X of processor 1 or process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vendor supplies debug tool for custom special purpose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7200" y="1676520"/>
            <a:ext cx="5400720" cy="3809880"/>
            <a:chOff x="457200" y="1676520"/>
            <a:chExt cx="5400720" cy="3809880"/>
          </a:xfrm>
        </p:grpSpPr>
        <p:grpSp>
          <p:nvGrpSpPr>
            <p:cNvPr id="315" name=""/>
            <p:cNvGrpSpPr/>
            <p:nvPr/>
          </p:nvGrpSpPr>
          <p:grpSpPr>
            <a:xfrm>
              <a:off x="457200" y="1676520"/>
              <a:ext cx="5400720" cy="3809880"/>
              <a:chOff x="457200" y="1676520"/>
              <a:chExt cx="5400720" cy="3809880"/>
            </a:xfrm>
          </p:grpSpPr>
          <p:sp>
            <p:nvSpPr>
              <p:cNvPr id="316" name=""/>
              <p:cNvSpPr/>
              <p:nvPr/>
            </p:nvSpPr>
            <p:spPr>
              <a:xfrm>
                <a:off x="1362240" y="2471760"/>
                <a:ext cx="2852640" cy="609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81760" y="1938240"/>
                <a:ext cx="304560" cy="1676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24440" y="3505320"/>
                <a:ext cx="21333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nection Devi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95760" y="4071960"/>
                <a:ext cx="1828800" cy="6858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19600" y="4395960"/>
                <a:ext cx="761760" cy="333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14520" y="1938240"/>
                <a:ext cx="1143000" cy="45720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81400" y="3171960"/>
                <a:ext cx="838080" cy="257040"/>
              </a:xfrm>
              <a:prstGeom prst="rect">
                <a:avLst/>
              </a:prstGeom>
              <a:solidFill>
                <a:srgbClr val="cc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57320" y="1938240"/>
                <a:ext cx="304920" cy="1676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09960" y="2471760"/>
                <a:ext cx="228600" cy="609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33840" y="422424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5600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05040" y="232416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05040" y="2776680"/>
                <a:ext cx="838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57520" y="2776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657520" y="327024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97" h="169">
                    <a:moveTo>
                      <a:pt x="0" y="0"/>
                    </a:moveTo>
                    <a:lnTo>
                      <a:pt x="97" y="16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9560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24560" y="4148280"/>
                <a:ext cx="213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rget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720" y="167652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ool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71920" y="224316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962080" y="2624040"/>
                <a:ext cx="609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62440" y="2624040"/>
                <a:ext cx="0" cy="762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62240" y="2471760"/>
                <a:ext cx="2819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62440" y="1938240"/>
                <a:ext cx="1143000" cy="45720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05240" y="16812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ool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24360" y="445284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28920" y="4452840"/>
                <a:ext cx="228600" cy="2286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67360" y="4452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2233800" y="4286160"/>
                <a:ext cx="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29120" y="4267080"/>
                <a:ext cx="609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19520" y="3371760"/>
                <a:ext cx="128520" cy="74880"/>
              </a:xfrm>
              <a:custGeom>
                <a:avLst/>
                <a:gdLst/>
                <a:ahLst/>
                <a:rect l="l" t="t" r="r" b="b"/>
                <a:pathLst>
                  <a:path w="86" h="153">
                    <a:moveTo>
                      <a:pt x="86" y="0"/>
                    </a:moveTo>
                    <a:lnTo>
                      <a:pt x="0" y="15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4816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00520" y="422424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72120" y="4210200"/>
                <a:ext cx="0" cy="22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76640" y="231948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276640" y="2624040"/>
                <a:ext cx="5335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10160" y="2624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10160" y="2624040"/>
                <a:ext cx="9360" cy="804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1936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2581200" y="4376880"/>
                <a:ext cx="2286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2266560" y="5477040"/>
                <a:ext cx="1908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10160" y="4300560"/>
                <a:ext cx="0" cy="7632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581560" y="4376880"/>
                <a:ext cx="0" cy="75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16480" y="3157560"/>
                <a:ext cx="745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8760" y="3157560"/>
                <a:ext cx="745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21040" y="3157560"/>
                <a:ext cx="745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19360" y="3429000"/>
                <a:ext cx="38124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7200" y="3200400"/>
                <a:ext cx="17528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nector plug-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05440" y="2471760"/>
                <a:ext cx="228600" cy="609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24440" y="2743200"/>
                <a:ext cx="160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clipse I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90880" y="3505320"/>
                <a:ext cx="3049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210040" y="32763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752480" y="2971800"/>
              <a:ext cx="2057400" cy="1905120"/>
              <a:chOff x="1752480" y="2971800"/>
              <a:chExt cx="2057400" cy="1905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209680" y="297180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09680" y="2971800"/>
                <a:ext cx="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2971800"/>
                <a:ext cx="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1752480" y="396252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3352680" y="396252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480" y="3962520"/>
                <a:ext cx="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09880" y="3962520"/>
                <a:ext cx="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480" y="4876920"/>
                <a:ext cx="2057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B3C9-C7E0-4FA9-B8B2-42EC2ACA73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Celeste Frogner</dc:creator>
  <dc:description/>
  <dc:language>en-US</dc:language>
  <cp:lastModifiedBy>Peter Lachner</cp:lastModifiedBy>
  <cp:lastPrinted>1998-11-04T21:31:56Z</cp:lastPrinted>
  <dcterms:modified xsi:type="dcterms:W3CDTF">2005-11-14T13:29:40Z</dcterms:modified>
  <cp:revision>4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SSG ppt Template</vt:lpwstr>
  </property>
</Properties>
</file>