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4EA7-79C8-4F0F-94C5-118517E2EA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14C1-2EE9-4683-AC00-BCECDB8329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A15F-20C5-4F14-B334-CA9E16BB64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1157-F511-4087-94E9-F8C8706DF3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1A17-E1DB-4165-ABE7-CD9BE62C9F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0828-2456-4B9A-9221-146B10D5C5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58D6-911E-4AF3-BB07-F90C8B1E9B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2DB6-53C0-4CEE-BB28-EA39748B45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B10E-91D0-4995-99A7-9A8FFD3AEA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144C-9B41-4405-A0E3-4BE92859FB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7918-B9CE-4272-9627-1B80DBAD39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2EBA-BF37-4B62-AF06-561102162B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540080" cy="1539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179280" y="659772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195040" y="6477120"/>
            <a:ext cx="1105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BB21-43D6-4E2B-ABD1-A67A1569F03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014560" y="655308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ldNum" idx="1"/>
          </p:nvPr>
        </p:nvSpPr>
        <p:spPr>
          <a:xfrm>
            <a:off x="6883560" y="254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1BAA-8A9B-4BF0-9161-F53F0E3339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9280" y="638964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9440" y="661356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R Debugger Backend Interface Propos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Oberhuber, Wind Riv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he Wind River Debugger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ind River debugger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X external debug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b/mi ASCII protocol via TCP/IP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gdb/mi commands + WR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as a ne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 the debugger, or connect to an existing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gdb/mi commands and wait for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gdb/mi parallel command execution (multiplex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gdb/mi response pa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command canc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 to gdb/mi asynchronous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R Debugger Backend Interfac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osed interface fulfills these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necessarily bound to gdb/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s and responses can be any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gers can be connected in any way (remote socket, local J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Async() performed as an Eclipse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DebuggerBackendInterface" descr=""/>
          <p:cNvPicPr/>
          <p:nvPr/>
        </p:nvPicPr>
        <p:blipFill>
          <a:blip r:embed="rId1"/>
          <a:srcRect l="7108" t="13272" r="8881" b="14575"/>
          <a:stretch/>
        </p:blipFill>
        <p:spPr>
          <a:xfrm>
            <a:off x="2286000" y="3124080"/>
            <a:ext cx="450360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synchronousDebuggerCommandInterface" descr=""/>
          <p:cNvPicPr/>
          <p:nvPr/>
        </p:nvPicPr>
        <p:blipFill>
          <a:blip r:embed="rId1"/>
          <a:srcRect l="0" t="0" r="0" b="6341"/>
          <a:stretch/>
        </p:blipFill>
        <p:spPr>
          <a:xfrm>
            <a:off x="533520" y="1066680"/>
            <a:ext cx="7966080" cy="51818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559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synchronous Debugger Command Interfac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Future Vision / Next Step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ed: Debugger Command Lifecycle lis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lows debugger command consistency che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lows collecting performanc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Debugger Backend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sion point based backend action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Actions fo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wnload module, unload module, fetch thread list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nefi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tensible backends, abstract 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nefi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s (TM, Launch) d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know t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end specific command details, the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e for the action avail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9:44:13Z</dcterms:created>
  <dc:creator>Ian Skerrett</dc:creator>
  <dc:description/>
  <dc:language>en-US</dc:language>
  <cp:lastModifiedBy>Martin Oberhuber</cp:lastModifiedBy>
  <dcterms:modified xsi:type="dcterms:W3CDTF">2005-10-13T16:40:53Z</dcterms:modified>
  <cp:revision>183</cp:revision>
  <dc:subject/>
  <dc:title>Slide 1</dc:title>
</cp:coreProperties>
</file>