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2173-CF76-4412-913E-90C9EF4731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6036-DA39-4815-B2C4-10C5647F5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1C7F-A2E0-4BEA-9D4C-20E60BE3DF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5250-00AA-4232-ACFE-2751FDDD78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75D6-CB53-4576-98CE-20F564D241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4753-E96A-41E5-B096-C42DB541B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A971-CB18-4D73-ABF3-81968E707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F9EB-74F7-465E-BFDB-4B2788977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7C9E-DD08-43D1-81C3-610FB4561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CD14-5B54-4002-A28E-B2BAEFB86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F1D4-8D92-4DB4-91AD-9AFA7FCC9D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E4FA-C11E-4901-8601-576574C78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30C6-BC2B-4B85-B566-AF1BB2B97FD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D13-8069-4CB3-A88E-13822082B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 Debugger Backend Interface Propos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Wind River Debugger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 River debugg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X external debu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b/mi ASCII protocol via TCP/IP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gdb/mi commands + WR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ne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the debugger, or connect to an existing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gdb/mi commands and wait fo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gdb/mi parallel command execution (multiplex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gdb/mi response 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command canc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gdb/mi asynchronous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R Debugger Backend Interfa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interface fulfills thes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cessarily bound to gdb/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 and responses can be any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ers can be connected in any way (remote socket, local J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Async() performed as an Eclips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DebuggerBackendInterface" descr=""/>
          <p:cNvPicPr/>
          <p:nvPr/>
        </p:nvPicPr>
        <p:blipFill>
          <a:blip r:embed="rId1"/>
          <a:srcRect l="7108" t="13272" r="8881" b="14575"/>
          <a:stretch/>
        </p:blipFill>
        <p:spPr>
          <a:xfrm>
            <a:off x="2286000" y="3124080"/>
            <a:ext cx="450360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synchronousDebuggerCommandInterface" descr=""/>
          <p:cNvPicPr/>
          <p:nvPr/>
        </p:nvPicPr>
        <p:blipFill>
          <a:blip r:embed="rId1"/>
          <a:srcRect l="0" t="0" r="0" b="6341"/>
          <a:stretch/>
        </p:blipFill>
        <p:spPr>
          <a:xfrm>
            <a:off x="533520" y="1066680"/>
            <a:ext cx="7966080" cy="5181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synchronous Debugger Command Interfa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uture Vision / 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ed: Debugger Command Lifecycle 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ows debugger command consistency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ows collecting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ebugger Backe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on point based backend action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Actions fo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module, unload module, fetch thread lis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efi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tensible backends, abstract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efi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s (TM, Launch) d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know t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end specific command details, the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e for the action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3T16:40:53Z</dcterms:modified>
  <cp:revision>183</cp:revision>
  <dc:subject/>
  <dc:title>Slide 1</dc:title>
</cp:coreProperties>
</file>