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268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268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4280-B7FE-416D-A67A-EA55E684F0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DB51-1F46-44E9-B453-4B22588667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DE58-6E07-4F94-9EE3-FF76AFBFC3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DE5A-5357-4D5B-BDD9-121EE9ED5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409A-6386-4FA8-BA88-36D29CCD1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B0DD-3863-42CE-A283-D48AFEE582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E2DF-8C5B-46F5-B6F2-D7E61FE36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D86A-E94A-458D-8947-09E6048E2D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789C-19C3-440E-859B-427392EAA9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0A94-5B27-45B3-85AD-24230FE77B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8EEF-EC53-478A-8057-0975D9FA4B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268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55700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400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268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26160"/>
            <a:ext cx="2712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26B1-0473-41D3-9C71-DF350FD4A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1120" y="392616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120" y="1557000"/>
            <a:ext cx="41112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926160"/>
            <a:ext cx="84247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389C-F598-4F11-8DA6-7CE5A4AC00C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7267-89AF-4BA6-B7E9-D70EF1223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clipse.org/org/processes/Eclipse_Standard_TopLevel_Charter_v1.0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clipse.org/legal/newcommitter.html" TargetMode="External"/><Relationship Id="rId2" Type="http://schemas.openxmlformats.org/officeDocument/2006/relationships/hyperlink" Target="http://www.eclipse.org/legal/EclipseMemberCommitterAgreementFinal.pdf" TargetMode="External"/><Relationship Id="rId3" Type="http://schemas.openxmlformats.org/officeDocument/2006/relationships/hyperlink" Target="http://www.eclipse.org/legal/member_committer_questionnaire.html" TargetMode="External"/><Relationship Id="rId4" Type="http://schemas.openxmlformats.org/officeDocument/2006/relationships/hyperlink" Target="http://www.eclipse.org/legal/EclipseIndividualCommitterAgreementFinal.pdf" TargetMode="External"/><Relationship Id="rId5" Type="http://schemas.openxmlformats.org/officeDocument/2006/relationships/hyperlink" Target="http://www.eclipse.org/legal/employer_consent.pdf" TargetMode="External"/><Relationship Id="rId6" Type="http://schemas.openxmlformats.org/officeDocument/2006/relationships/hyperlink" Target="http://www.eclipse.org/legal/committerguidelines.html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clipse IP Due Diligence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640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 / DD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– 14 October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G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ntributors:  Developers vs. Committer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who makes a contribution to the Eclipse Foundation website or to Eclipse projects is considered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ribu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Contributors, Eclipse differentiates betwe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velop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s have more responsibilities than develop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-in rights to parts of the project’s CVS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participation in mailing lists and news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ing in 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review of developer sub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ue diligence on submissions and assisting project lead in tracking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rs who provide frequent and valuable contributions to a project can be nominated to be commit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clipse Standard Char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es the roles of developers and committers and the process for nominating and voting on committers.</a:t>
            </a:r>
            <a:br>
              <a:rPr sz="1600"/>
            </a:b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org/processes/Eclipse_Standard_TopLevel_Charter_v1.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ore on Committer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becoming a new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legal/newcommitte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mber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mitter who works for an Eclipse member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 must execute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ber Committer Agreement</a:t>
            </a:r>
            <a:br>
              <a:rPr sz="1400"/>
            </a:br>
            <a:r>
              <a:rPr b="0" i="1" lang="en-US" sz="14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legal/EclipseMemberCommitterAgreementFinal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member committer must fill out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ber Committer Questionnai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eclipse.org/legal/member_committer_questionnair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vidual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mitter not working for an Eclipse member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tter must execute a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dividual Committer Agreement</a:t>
            </a:r>
            <a:br>
              <a:rPr sz="1400"/>
            </a:br>
            <a:r>
              <a:rPr b="0" i="1" lang="en-US" sz="1400" spc="-1" strike="noStrike" u="sng">
                <a:solidFill>
                  <a:srgbClr val="c0c0c0"/>
                </a:solidFill>
                <a:uFillTx/>
                <a:latin typeface="Arial"/>
                <a:hlinkClick r:id="rId4"/>
              </a:rPr>
              <a:t>http://www.eclipse.org/legal/EclipseIndividualCommitterAgreementFinal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loyer must execute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itter Employer Consent Form</a:t>
            </a:r>
            <a:br>
              <a:rPr sz="1400"/>
            </a:br>
            <a:r>
              <a:rPr b="0" i="1" lang="en-US" sz="1400" spc="-1" strike="noStrike" u="sng">
                <a:solidFill>
                  <a:srgbClr val="c0c0c0"/>
                </a:solidFill>
                <a:uFillTx/>
                <a:latin typeface="Arial"/>
                <a:hlinkClick r:id="rId5"/>
              </a:rPr>
              <a:t>http://www.eclipse.org/legal/employer_consent.pd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tter must fill out a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dividual Committer Questionnai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clipse.org/legal/individual_committer_questionnaire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6"/>
              </a:rPr>
              <a:t>http://www.eclipse.org/legal/committerguidelines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de submission and IP Due Diligence 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contributor can submit code to a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ntributions from non-committers MUST come through a traceabl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mailing list and newsgroup submissions are technically ok, the preferred and recommended submission method is vi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gzilla attach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from Committers do not require Bugzilla attach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de a “Significant Contribution” requiring IP due dilig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100 lines of co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a Com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-party licensed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with potential crypt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g fixes and minor enhancements are excluded from the “significant” label, but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review the code for appropriateness prior to check-in: technical correctness, no legal or copyright references, no profanity, no cryptography, etc. See the committer guidelines for mor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de submission and IP Due Diligen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ubmission is a “significant contribution”, the following steps must occ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C must approve the technical suitability of the code for the pro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 must complete the Contribution Questionnair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legal/ContributionQuestionnairePart1-v1.0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O must perform IP due diligence and approve the con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ter commits the code to the project’s CVS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 (if required) must be completed prior to check-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priate legal documentation must be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L no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de copyright and lic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icenses for third-party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http://www.eclipse.org/legal/guidetolegaldoc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de submission and IP Due Diligen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L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trac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ibutions from non-committers and for “significant contribution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raceability is public and is available on the projects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anning Council is working on a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ject Lo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utomated thi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org/processes/Guidelines_for_Eclipse_Development_Process/project-lo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0492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Bugzilla for everything allows mostly automatic generation of the project lo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Process Made Eas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120" y="1844640"/>
            <a:ext cx="311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ter: Did I write this cod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000" y="2565360"/>
            <a:ext cx="2710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d it come from a Bugzill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10520" y="1557360"/>
            <a:ext cx="2289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contributor cre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gzilla ent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3357720"/>
            <a:ext cx="2911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, create about.html, et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commit to CV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4560" y="4076640"/>
            <a:ext cx="3128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have a non-EPL licens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7440" y="4797360"/>
            <a:ext cx="1596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it &gt;100 LOC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3080" y="5589720"/>
            <a:ext cx="2652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have cryptography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12320" y="3760920"/>
            <a:ext cx="3475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out a Contribution Questionnai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360" y="4941720"/>
            <a:ext cx="3465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Foundation IP due-dilig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ply that it is ok to inclu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205000"/>
            <a:ext cx="1440" cy="11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220500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1989000"/>
            <a:ext cx="1511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995640" y="2133720"/>
            <a:ext cx="266400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79640" y="2852640"/>
            <a:ext cx="431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76360" y="443700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92720" y="407628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780000" y="4076640"/>
            <a:ext cx="23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84720" y="4149720"/>
            <a:ext cx="1871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164360" y="407664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643280" y="5516640"/>
            <a:ext cx="237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116000" y="6237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116000" y="3933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4840" y="251604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49560" y="213372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201312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000" y="328464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440856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1560" y="515772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6360" y="3933720"/>
            <a:ext cx="28728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581360"/>
            <a:ext cx="406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005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1640" y="476892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7960" y="440856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44680" y="3832200"/>
            <a:ext cx="497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0b37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413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ow, this is a pain!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, but the proce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full traceability on Eclipse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s that code can carry the EPL lab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s companies confidence in their commercial products built upon Eclip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Bugzilla for all submissions automates the traceability and should simplify this process for developers and contribu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Doug G. Gaff</cp:lastModifiedBy>
  <dcterms:modified xsi:type="dcterms:W3CDTF">2005-10-12T12:59:23Z</dcterms:modified>
  <cp:revision>178</cp:revision>
  <dc:subject/>
  <dc:title>Slide 1</dc:title>
</cp:coreProperties>
</file>