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30F73-54A8-42EC-B0A1-D4D6088B63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F7AF9-F58B-4161-B180-8D0641D94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9299C-285D-4360-A09D-8BA3F2CCD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94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232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6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94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232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DE0AF-8BE5-4A33-86B2-80A378FCDB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9D529-FD94-4324-A7F1-CAD7F26F11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94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2232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6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94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2232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C2A1F-A433-47C1-9D06-17F1BCB367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00EDB-7CD6-4A6E-9073-7E0BE0C882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1E9CE-E2F6-421F-B41B-668323C558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1D915-9BBC-4EEE-ADD9-2DF3DC10C6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6888F-2F50-475F-A98A-F324111D1D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85F41-3542-4D49-B4EA-0AFE592B03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2D603-6C25-4E39-AE2A-BFA5946081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0"/>
            <a:ext cx="152280" cy="838080"/>
          </a:xfrm>
          <a:prstGeom prst="rect">
            <a:avLst/>
          </a:pr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76212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124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40E5-9F4C-4D3A-B7E0-963274AAE885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219320" y="457200"/>
            <a:ext cx="7164360" cy="612720"/>
            <a:chOff x="1219320" y="457200"/>
            <a:chExt cx="7164360" cy="612720"/>
          </a:xfrm>
        </p:grpSpPr>
        <p:sp>
          <p:nvSpPr>
            <p:cNvPr id="6" name=""/>
            <p:cNvSpPr/>
            <p:nvPr/>
          </p:nvSpPr>
          <p:spPr>
            <a:xfrm>
              <a:off x="8217000" y="457200"/>
              <a:ext cx="16668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19320" y="1042920"/>
              <a:ext cx="7081920" cy="2700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283600" y="603360"/>
              <a:ext cx="3024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223E-1F3C-455F-A049-ED84C2998C9E}" type="datetime">
              <a:rPr b="0" lang="en-US" sz="1400" spc="-1" strike="noStrike">
                <a:solidFill>
                  <a:srgbClr val="000000"/>
                </a:solidFill>
                <a:latin typeface="Arial Black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038480" y="6583320"/>
            <a:ext cx="21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ntel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7543800" y="6305400"/>
            <a:ext cx="1428840" cy="5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15235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76520" y="2438280"/>
            <a:ext cx="7164360" cy="612720"/>
            <a:chOff x="1676520" y="2438280"/>
            <a:chExt cx="7164360" cy="612720"/>
          </a:xfrm>
        </p:grpSpPr>
        <p:sp>
          <p:nvSpPr>
            <p:cNvPr id="51" name=""/>
            <p:cNvSpPr/>
            <p:nvPr/>
          </p:nvSpPr>
          <p:spPr>
            <a:xfrm>
              <a:off x="8674200" y="2438280"/>
              <a:ext cx="16668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76520" y="3024360"/>
              <a:ext cx="7081560" cy="2664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740800" y="2584440"/>
              <a:ext cx="3024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2"/>
          <p:cNvSpPr>
            <a:spLocks noGrp="1"/>
          </p:cNvSpPr>
          <p:nvPr>
            <p:ph type="dt" idx="2"/>
          </p:nvPr>
        </p:nvSpPr>
        <p:spPr>
          <a:xfrm>
            <a:off x="990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3D83-E051-4F08-A745-E868975BD4AD}" type="datetime">
              <a:rPr b="0" lang="en-US" sz="1400" spc="-1" strike="noStrike">
                <a:solidFill>
                  <a:srgbClr val="000000"/>
                </a:solidFill>
                <a:latin typeface="Arial Black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0"/>
            <a:ext cx="152280" cy="838080"/>
          </a:xfrm>
          <a:prstGeom prst="rect">
            <a:avLst/>
          </a:pr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" cy="609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00400" y="6583320"/>
            <a:ext cx="373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ntel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543800" y="6305400"/>
            <a:ext cx="1428840" cy="552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clipse Target Connection Adapter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cenarios and Use Cas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5486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ter Lachn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47´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CCDCD27-90B4-4FC5-8361-B8B6C169E3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1219320" y="5791320"/>
            <a:ext cx="5638320" cy="307080"/>
            <a:chOff x="1219320" y="5791320"/>
            <a:chExt cx="5638320" cy="307080"/>
          </a:xfrm>
        </p:grpSpPr>
        <p:sp>
          <p:nvSpPr>
            <p:cNvPr id="100" name=""/>
            <p:cNvSpPr/>
            <p:nvPr/>
          </p:nvSpPr>
          <p:spPr>
            <a:xfrm>
              <a:off x="1600200" y="5791320"/>
              <a:ext cx="525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nk to </a:t>
              </a: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rocessor 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/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Core X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using connector channel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19320" y="594324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219320" y="5991120"/>
            <a:ext cx="5790600" cy="307080"/>
            <a:chOff x="1219320" y="5991120"/>
            <a:chExt cx="5790600" cy="307080"/>
          </a:xfrm>
        </p:grpSpPr>
        <p:sp>
          <p:nvSpPr>
            <p:cNvPr id="103" name=""/>
            <p:cNvSpPr/>
            <p:nvPr/>
          </p:nvSpPr>
          <p:spPr>
            <a:xfrm>
              <a:off x="1600200" y="5991120"/>
              <a:ext cx="540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nk to </a:t>
              </a: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rocessor 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/ </a:t>
              </a:r>
              <a:r>
                <a:rPr b="1" lang="en-US" sz="1400" spc="-1" strike="noStrike">
                  <a:solidFill>
                    <a:srgbClr val="99cc00"/>
                  </a:solidFill>
                  <a:latin typeface="Arial"/>
                </a:rPr>
                <a:t>Core Y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using connector channel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19320" y="6143760"/>
              <a:ext cx="380880" cy="0"/>
            </a:xfrm>
            <a:prstGeom prst="line">
              <a:avLst/>
            </a:prstGeom>
            <a:ln w="28440">
              <a:solidFill>
                <a:srgbClr val="66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219320" y="6172200"/>
            <a:ext cx="4876200" cy="307080"/>
            <a:chOff x="1219320" y="6172200"/>
            <a:chExt cx="4876200" cy="307080"/>
          </a:xfrm>
        </p:grpSpPr>
        <p:sp>
          <p:nvSpPr>
            <p:cNvPr id="106" name=""/>
            <p:cNvSpPr/>
            <p:nvPr/>
          </p:nvSpPr>
          <p:spPr>
            <a:xfrm>
              <a:off x="1600200" y="6172200"/>
              <a:ext cx="449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nk to 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Processor 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using connector channel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19320" y="6324480"/>
              <a:ext cx="38088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1447920" y="3808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cenari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219320"/>
            <a:ext cx="45720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W vendor supplies connection device &amp; ECL connector plug-in for a particular (group/familiy of) Si/board(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l vendor supplies a debug too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S vendor supplies a debug 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rd party vendor supplies FLASH programming 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1676520"/>
            <a:ext cx="5400720" cy="3809880"/>
            <a:chOff x="380880" y="1676520"/>
            <a:chExt cx="5400720" cy="3809880"/>
          </a:xfrm>
        </p:grpSpPr>
        <p:sp>
          <p:nvSpPr>
            <p:cNvPr id="111" name=""/>
            <p:cNvSpPr/>
            <p:nvPr/>
          </p:nvSpPr>
          <p:spPr>
            <a:xfrm>
              <a:off x="1285920" y="2471760"/>
              <a:ext cx="2852640" cy="6094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05440" y="1938240"/>
              <a:ext cx="304560" cy="16765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48120" y="3505320"/>
              <a:ext cx="2133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nection Dev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19440" y="4071960"/>
              <a:ext cx="1828800" cy="68580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43280" y="4395960"/>
              <a:ext cx="761760" cy="3333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38200" y="1938240"/>
              <a:ext cx="1143000" cy="45720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05080" y="3171960"/>
              <a:ext cx="838080" cy="257040"/>
            </a:xfrm>
            <a:prstGeom prst="rect">
              <a:avLst/>
            </a:prstGeom>
            <a:solidFill>
              <a:srgbClr val="cc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81000" y="1938240"/>
              <a:ext cx="304920" cy="16765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33640" y="2471760"/>
              <a:ext cx="228600" cy="609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57520" y="4224240"/>
              <a:ext cx="152280" cy="76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79680" y="3581280"/>
              <a:ext cx="507960" cy="642960"/>
            </a:xfrm>
            <a:custGeom>
              <a:avLst/>
              <a:gdLst/>
              <a:ahLst/>
              <a:rect l="l" t="t" r="r" b="b"/>
              <a:pathLst>
                <a:path w="320" h="384">
                  <a:moveTo>
                    <a:pt x="160" y="0"/>
                  </a:moveTo>
                  <a:cubicBezTo>
                    <a:pt x="96" y="16"/>
                    <a:pt x="32" y="32"/>
                    <a:pt x="16" y="48"/>
                  </a:cubicBezTo>
                  <a:cubicBezTo>
                    <a:pt x="0" y="64"/>
                    <a:pt x="16" y="80"/>
                    <a:pt x="64" y="96"/>
                  </a:cubicBezTo>
                  <a:cubicBezTo>
                    <a:pt x="112" y="112"/>
                    <a:pt x="288" y="120"/>
                    <a:pt x="304" y="144"/>
                  </a:cubicBezTo>
                  <a:cubicBezTo>
                    <a:pt x="320" y="168"/>
                    <a:pt x="184" y="200"/>
                    <a:pt x="160" y="240"/>
                  </a:cubicBezTo>
                  <a:cubicBezTo>
                    <a:pt x="136" y="280"/>
                    <a:pt x="160" y="288"/>
                    <a:pt x="160" y="38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28720" y="232416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28720" y="2776680"/>
              <a:ext cx="83844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81200" y="2776680"/>
              <a:ext cx="0" cy="5331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81200" y="3270240"/>
              <a:ext cx="85680" cy="158760"/>
            </a:xfrm>
            <a:custGeom>
              <a:avLst/>
              <a:gdLst/>
              <a:ahLst/>
              <a:rect l="l" t="t" r="r" b="b"/>
              <a:pathLst>
                <a:path w="97" h="169">
                  <a:moveTo>
                    <a:pt x="0" y="0"/>
                  </a:moveTo>
                  <a:lnTo>
                    <a:pt x="97" y="1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19280" y="3581280"/>
              <a:ext cx="507960" cy="642960"/>
            </a:xfrm>
            <a:custGeom>
              <a:avLst/>
              <a:gdLst/>
              <a:ahLst/>
              <a:rect l="l" t="t" r="r" b="b"/>
              <a:pathLst>
                <a:path w="320" h="384">
                  <a:moveTo>
                    <a:pt x="160" y="0"/>
                  </a:moveTo>
                  <a:cubicBezTo>
                    <a:pt x="96" y="16"/>
                    <a:pt x="32" y="32"/>
                    <a:pt x="16" y="48"/>
                  </a:cubicBezTo>
                  <a:cubicBezTo>
                    <a:pt x="0" y="64"/>
                    <a:pt x="16" y="80"/>
                    <a:pt x="64" y="96"/>
                  </a:cubicBezTo>
                  <a:cubicBezTo>
                    <a:pt x="112" y="112"/>
                    <a:pt x="288" y="120"/>
                    <a:pt x="304" y="144"/>
                  </a:cubicBezTo>
                  <a:cubicBezTo>
                    <a:pt x="320" y="168"/>
                    <a:pt x="184" y="200"/>
                    <a:pt x="160" y="240"/>
                  </a:cubicBezTo>
                  <a:cubicBezTo>
                    <a:pt x="136" y="280"/>
                    <a:pt x="160" y="288"/>
                    <a:pt x="160" y="38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48240" y="414828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rget 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14400" y="167652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ol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95600" y="22431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885760" y="2624040"/>
              <a:ext cx="60948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86120" y="2624040"/>
              <a:ext cx="0" cy="76212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85920" y="2471760"/>
              <a:ext cx="281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86120" y="1938240"/>
              <a:ext cx="1143000" cy="45720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28920" y="168120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ol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48040" y="4452840"/>
              <a:ext cx="22860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52600" y="4452840"/>
              <a:ext cx="228600" cy="22860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91040" y="4452840"/>
              <a:ext cx="228600" cy="228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2157480" y="4286160"/>
              <a:ext cx="0" cy="15264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52800" y="4267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43200" y="3371760"/>
              <a:ext cx="128520" cy="74880"/>
            </a:xfrm>
            <a:custGeom>
              <a:avLst/>
              <a:gdLst/>
              <a:ahLst/>
              <a:rect l="l" t="t" r="r" b="b"/>
              <a:pathLst>
                <a:path w="86" h="153">
                  <a:moveTo>
                    <a:pt x="86" y="0"/>
                  </a:moveTo>
                  <a:lnTo>
                    <a:pt x="0" y="15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71840" y="3581280"/>
              <a:ext cx="507960" cy="642960"/>
            </a:xfrm>
            <a:custGeom>
              <a:avLst/>
              <a:gdLst/>
              <a:ahLst/>
              <a:rect l="l" t="t" r="r" b="b"/>
              <a:pathLst>
                <a:path w="320" h="384">
                  <a:moveTo>
                    <a:pt x="160" y="0"/>
                  </a:moveTo>
                  <a:cubicBezTo>
                    <a:pt x="96" y="16"/>
                    <a:pt x="32" y="32"/>
                    <a:pt x="16" y="48"/>
                  </a:cubicBezTo>
                  <a:cubicBezTo>
                    <a:pt x="0" y="64"/>
                    <a:pt x="16" y="80"/>
                    <a:pt x="64" y="96"/>
                  </a:cubicBezTo>
                  <a:cubicBezTo>
                    <a:pt x="112" y="112"/>
                    <a:pt x="288" y="120"/>
                    <a:pt x="304" y="144"/>
                  </a:cubicBezTo>
                  <a:cubicBezTo>
                    <a:pt x="320" y="168"/>
                    <a:pt x="184" y="200"/>
                    <a:pt x="160" y="240"/>
                  </a:cubicBezTo>
                  <a:cubicBezTo>
                    <a:pt x="136" y="280"/>
                    <a:pt x="160" y="288"/>
                    <a:pt x="160" y="384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24200" y="4224240"/>
              <a:ext cx="45720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95800" y="4210200"/>
              <a:ext cx="0" cy="22860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00320" y="2319480"/>
              <a:ext cx="0" cy="30456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00320" y="2624040"/>
              <a:ext cx="533520" cy="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33840" y="26240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33840" y="2624040"/>
              <a:ext cx="9360" cy="80496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43040" y="3581280"/>
              <a:ext cx="507960" cy="642960"/>
            </a:xfrm>
            <a:custGeom>
              <a:avLst/>
              <a:gdLst/>
              <a:ahLst/>
              <a:rect l="l" t="t" r="r" b="b"/>
              <a:pathLst>
                <a:path w="320" h="384">
                  <a:moveTo>
                    <a:pt x="160" y="0"/>
                  </a:moveTo>
                  <a:cubicBezTo>
                    <a:pt x="96" y="16"/>
                    <a:pt x="32" y="32"/>
                    <a:pt x="16" y="48"/>
                  </a:cubicBezTo>
                  <a:cubicBezTo>
                    <a:pt x="0" y="64"/>
                    <a:pt x="16" y="80"/>
                    <a:pt x="64" y="96"/>
                  </a:cubicBezTo>
                  <a:cubicBezTo>
                    <a:pt x="112" y="112"/>
                    <a:pt x="288" y="120"/>
                    <a:pt x="304" y="144"/>
                  </a:cubicBezTo>
                  <a:cubicBezTo>
                    <a:pt x="320" y="168"/>
                    <a:pt x="184" y="200"/>
                    <a:pt x="160" y="240"/>
                  </a:cubicBezTo>
                  <a:cubicBezTo>
                    <a:pt x="136" y="280"/>
                    <a:pt x="160" y="288"/>
                    <a:pt x="160" y="384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2504880" y="4376880"/>
              <a:ext cx="228600" cy="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2190240" y="5477040"/>
              <a:ext cx="1908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33840" y="4300560"/>
              <a:ext cx="0" cy="7632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05240" y="4376880"/>
              <a:ext cx="0" cy="7596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40160" y="3157560"/>
              <a:ext cx="7452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92440" y="3157560"/>
              <a:ext cx="7452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44720" y="3157560"/>
              <a:ext cx="7452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43040" y="3429000"/>
              <a:ext cx="381240" cy="1522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0880" y="3200400"/>
              <a:ext cx="17528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nector plug-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29120" y="2471760"/>
              <a:ext cx="228600" cy="609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48120" y="274320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clipse I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14560" y="3505320"/>
              <a:ext cx="3049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133720" y="3276360"/>
              <a:ext cx="1522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2133720" y="2971800"/>
            <a:ext cx="11430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8D262-0D48-47D1-9A5D-3A8853C8A7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1219320" y="5791320"/>
            <a:ext cx="5638320" cy="307080"/>
            <a:chOff x="1219320" y="5791320"/>
            <a:chExt cx="5638320" cy="307080"/>
          </a:xfrm>
        </p:grpSpPr>
        <p:sp>
          <p:nvSpPr>
            <p:cNvPr id="164" name=""/>
            <p:cNvSpPr/>
            <p:nvPr/>
          </p:nvSpPr>
          <p:spPr>
            <a:xfrm>
              <a:off x="1600200" y="5791320"/>
              <a:ext cx="525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nk to </a:t>
              </a: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rocessor 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/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Core X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using connector channel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9320" y="594324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219320" y="5991120"/>
            <a:ext cx="5790600" cy="307080"/>
            <a:chOff x="1219320" y="5991120"/>
            <a:chExt cx="5790600" cy="307080"/>
          </a:xfrm>
        </p:grpSpPr>
        <p:sp>
          <p:nvSpPr>
            <p:cNvPr id="167" name=""/>
            <p:cNvSpPr/>
            <p:nvPr/>
          </p:nvSpPr>
          <p:spPr>
            <a:xfrm>
              <a:off x="1600200" y="5991120"/>
              <a:ext cx="540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nk to </a:t>
              </a: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rocessor 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/ </a:t>
              </a:r>
              <a:r>
                <a:rPr b="1" lang="en-US" sz="1400" spc="-1" strike="noStrike">
                  <a:solidFill>
                    <a:srgbClr val="99cc00"/>
                  </a:solidFill>
                  <a:latin typeface="Arial"/>
                </a:rPr>
                <a:t>Core Y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using connector channel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19320" y="6143760"/>
              <a:ext cx="380880" cy="0"/>
            </a:xfrm>
            <a:prstGeom prst="line">
              <a:avLst/>
            </a:prstGeom>
            <a:ln w="28440">
              <a:solidFill>
                <a:srgbClr val="66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219320" y="6172200"/>
            <a:ext cx="4876200" cy="307080"/>
            <a:chOff x="1219320" y="6172200"/>
            <a:chExt cx="4876200" cy="307080"/>
          </a:xfrm>
        </p:grpSpPr>
        <p:sp>
          <p:nvSpPr>
            <p:cNvPr id="170" name=""/>
            <p:cNvSpPr/>
            <p:nvPr/>
          </p:nvSpPr>
          <p:spPr>
            <a:xfrm>
              <a:off x="1600200" y="6172200"/>
              <a:ext cx="449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nk to 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Processor 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using connector channel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19320" y="6324480"/>
              <a:ext cx="38088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447920" y="3808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cenari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48320" y="1219320"/>
            <a:ext cx="457200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l vendor supplies HW connection device, ECL connector and debug 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rd party vendor supplies add-value product using tools vendor’s connection to HW 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/board vendor supplies specific HW related tools using tools vendor’s connection to HW 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S vendor supplies OS browsers as add-on using tools vendor’s connection to HW 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80880" y="1676520"/>
            <a:ext cx="5400720" cy="3809880"/>
            <a:chOff x="380880" y="1676520"/>
            <a:chExt cx="5400720" cy="3809880"/>
          </a:xfrm>
        </p:grpSpPr>
        <p:sp>
          <p:nvSpPr>
            <p:cNvPr id="175" name=""/>
            <p:cNvSpPr/>
            <p:nvPr/>
          </p:nvSpPr>
          <p:spPr>
            <a:xfrm>
              <a:off x="1285920" y="2471760"/>
              <a:ext cx="2852640" cy="6094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05440" y="1938240"/>
              <a:ext cx="304560" cy="16765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3505320"/>
              <a:ext cx="2133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nection Dev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19440" y="4071960"/>
              <a:ext cx="1828800" cy="68580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43280" y="4395960"/>
              <a:ext cx="761760" cy="3333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8200" y="1938240"/>
              <a:ext cx="1143000" cy="45720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5080" y="3171960"/>
              <a:ext cx="838080" cy="257040"/>
            </a:xfrm>
            <a:prstGeom prst="rect">
              <a:avLst/>
            </a:prstGeom>
            <a:solidFill>
              <a:srgbClr val="cc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81000" y="1938240"/>
              <a:ext cx="304920" cy="16765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33640" y="2471760"/>
              <a:ext cx="228600" cy="609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57520" y="4224240"/>
              <a:ext cx="152280" cy="76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79680" y="3581280"/>
              <a:ext cx="507960" cy="642960"/>
            </a:xfrm>
            <a:custGeom>
              <a:avLst/>
              <a:gdLst/>
              <a:ahLst/>
              <a:rect l="l" t="t" r="r" b="b"/>
              <a:pathLst>
                <a:path w="320" h="384">
                  <a:moveTo>
                    <a:pt x="160" y="0"/>
                  </a:moveTo>
                  <a:cubicBezTo>
                    <a:pt x="96" y="16"/>
                    <a:pt x="32" y="32"/>
                    <a:pt x="16" y="48"/>
                  </a:cubicBezTo>
                  <a:cubicBezTo>
                    <a:pt x="0" y="64"/>
                    <a:pt x="16" y="80"/>
                    <a:pt x="64" y="96"/>
                  </a:cubicBezTo>
                  <a:cubicBezTo>
                    <a:pt x="112" y="112"/>
                    <a:pt x="288" y="120"/>
                    <a:pt x="304" y="144"/>
                  </a:cubicBezTo>
                  <a:cubicBezTo>
                    <a:pt x="320" y="168"/>
                    <a:pt x="184" y="200"/>
                    <a:pt x="160" y="240"/>
                  </a:cubicBezTo>
                  <a:cubicBezTo>
                    <a:pt x="136" y="280"/>
                    <a:pt x="160" y="288"/>
                    <a:pt x="160" y="38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28720" y="232416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28720" y="2776680"/>
              <a:ext cx="83844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581200" y="2776680"/>
              <a:ext cx="0" cy="5331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81200" y="3270240"/>
              <a:ext cx="85680" cy="158760"/>
            </a:xfrm>
            <a:custGeom>
              <a:avLst/>
              <a:gdLst/>
              <a:ahLst/>
              <a:rect l="l" t="t" r="r" b="b"/>
              <a:pathLst>
                <a:path w="97" h="169">
                  <a:moveTo>
                    <a:pt x="0" y="0"/>
                  </a:moveTo>
                  <a:lnTo>
                    <a:pt x="97" y="1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19280" y="3581280"/>
              <a:ext cx="507960" cy="642960"/>
            </a:xfrm>
            <a:custGeom>
              <a:avLst/>
              <a:gdLst/>
              <a:ahLst/>
              <a:rect l="l" t="t" r="r" b="b"/>
              <a:pathLst>
                <a:path w="320" h="384">
                  <a:moveTo>
                    <a:pt x="160" y="0"/>
                  </a:moveTo>
                  <a:cubicBezTo>
                    <a:pt x="96" y="16"/>
                    <a:pt x="32" y="32"/>
                    <a:pt x="16" y="48"/>
                  </a:cubicBezTo>
                  <a:cubicBezTo>
                    <a:pt x="0" y="64"/>
                    <a:pt x="16" y="80"/>
                    <a:pt x="64" y="96"/>
                  </a:cubicBezTo>
                  <a:cubicBezTo>
                    <a:pt x="112" y="112"/>
                    <a:pt x="288" y="120"/>
                    <a:pt x="304" y="144"/>
                  </a:cubicBezTo>
                  <a:cubicBezTo>
                    <a:pt x="320" y="168"/>
                    <a:pt x="184" y="200"/>
                    <a:pt x="160" y="240"/>
                  </a:cubicBezTo>
                  <a:cubicBezTo>
                    <a:pt x="136" y="280"/>
                    <a:pt x="160" y="288"/>
                    <a:pt x="160" y="38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48240" y="414828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rget 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14400" y="167652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ol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95600" y="22431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2885760" y="2624040"/>
              <a:ext cx="60948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86120" y="2624040"/>
              <a:ext cx="0" cy="76212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85920" y="2471760"/>
              <a:ext cx="281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86120" y="1938240"/>
              <a:ext cx="1143000" cy="45720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28920" y="168120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ol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048040" y="4452840"/>
              <a:ext cx="22860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352600" y="4452840"/>
              <a:ext cx="228600" cy="22860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191040" y="4452840"/>
              <a:ext cx="228600" cy="228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2157480" y="4286160"/>
              <a:ext cx="0" cy="15264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52800" y="4267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43200" y="3371760"/>
              <a:ext cx="128520" cy="74880"/>
            </a:xfrm>
            <a:custGeom>
              <a:avLst/>
              <a:gdLst/>
              <a:ahLst/>
              <a:rect l="l" t="t" r="r" b="b"/>
              <a:pathLst>
                <a:path w="86" h="153">
                  <a:moveTo>
                    <a:pt x="86" y="0"/>
                  </a:moveTo>
                  <a:lnTo>
                    <a:pt x="0" y="15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71840" y="3581280"/>
              <a:ext cx="507960" cy="642960"/>
            </a:xfrm>
            <a:custGeom>
              <a:avLst/>
              <a:gdLst/>
              <a:ahLst/>
              <a:rect l="l" t="t" r="r" b="b"/>
              <a:pathLst>
                <a:path w="320" h="384">
                  <a:moveTo>
                    <a:pt x="160" y="0"/>
                  </a:moveTo>
                  <a:cubicBezTo>
                    <a:pt x="96" y="16"/>
                    <a:pt x="32" y="32"/>
                    <a:pt x="16" y="48"/>
                  </a:cubicBezTo>
                  <a:cubicBezTo>
                    <a:pt x="0" y="64"/>
                    <a:pt x="16" y="80"/>
                    <a:pt x="64" y="96"/>
                  </a:cubicBezTo>
                  <a:cubicBezTo>
                    <a:pt x="112" y="112"/>
                    <a:pt x="288" y="120"/>
                    <a:pt x="304" y="144"/>
                  </a:cubicBezTo>
                  <a:cubicBezTo>
                    <a:pt x="320" y="168"/>
                    <a:pt x="184" y="200"/>
                    <a:pt x="160" y="240"/>
                  </a:cubicBezTo>
                  <a:cubicBezTo>
                    <a:pt x="136" y="280"/>
                    <a:pt x="160" y="288"/>
                    <a:pt x="160" y="384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824200" y="4224240"/>
              <a:ext cx="45720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95800" y="4210200"/>
              <a:ext cx="0" cy="22860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00320" y="2319480"/>
              <a:ext cx="0" cy="30456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00320" y="2624040"/>
              <a:ext cx="533520" cy="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33840" y="26240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33840" y="2624040"/>
              <a:ext cx="9360" cy="80496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43040" y="3581280"/>
              <a:ext cx="507960" cy="642960"/>
            </a:xfrm>
            <a:custGeom>
              <a:avLst/>
              <a:gdLst/>
              <a:ahLst/>
              <a:rect l="l" t="t" r="r" b="b"/>
              <a:pathLst>
                <a:path w="320" h="384">
                  <a:moveTo>
                    <a:pt x="160" y="0"/>
                  </a:moveTo>
                  <a:cubicBezTo>
                    <a:pt x="96" y="16"/>
                    <a:pt x="32" y="32"/>
                    <a:pt x="16" y="48"/>
                  </a:cubicBezTo>
                  <a:cubicBezTo>
                    <a:pt x="0" y="64"/>
                    <a:pt x="16" y="80"/>
                    <a:pt x="64" y="96"/>
                  </a:cubicBezTo>
                  <a:cubicBezTo>
                    <a:pt x="112" y="112"/>
                    <a:pt x="288" y="120"/>
                    <a:pt x="304" y="144"/>
                  </a:cubicBezTo>
                  <a:cubicBezTo>
                    <a:pt x="320" y="168"/>
                    <a:pt x="184" y="200"/>
                    <a:pt x="160" y="240"/>
                  </a:cubicBezTo>
                  <a:cubicBezTo>
                    <a:pt x="136" y="280"/>
                    <a:pt x="160" y="288"/>
                    <a:pt x="160" y="384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504880" y="4376880"/>
              <a:ext cx="228600" cy="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2190240" y="5477040"/>
              <a:ext cx="1908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733840" y="4300560"/>
              <a:ext cx="0" cy="7632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05240" y="4376880"/>
              <a:ext cx="0" cy="7596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540160" y="3157560"/>
              <a:ext cx="7452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92440" y="3157560"/>
              <a:ext cx="7452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44720" y="3157560"/>
              <a:ext cx="7452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43040" y="3429000"/>
              <a:ext cx="381240" cy="1522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880" y="3200400"/>
              <a:ext cx="17528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nector plug-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029120" y="2471760"/>
              <a:ext cx="228600" cy="609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274320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clipse I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914560" y="3505320"/>
              <a:ext cx="3049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2133720" y="3276360"/>
              <a:ext cx="1522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371600" y="1600200"/>
            <a:ext cx="1828800" cy="2057400"/>
            <a:chOff x="1371600" y="1600200"/>
            <a:chExt cx="1828800" cy="2057400"/>
          </a:xfrm>
        </p:grpSpPr>
        <p:sp>
          <p:nvSpPr>
            <p:cNvPr id="227" name=""/>
            <p:cNvSpPr/>
            <p:nvPr/>
          </p:nvSpPr>
          <p:spPr>
            <a:xfrm>
              <a:off x="1371600" y="1600200"/>
              <a:ext cx="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71600" y="29718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57400" y="297180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574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200400" y="297144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666880" y="297180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666880" y="1600200"/>
              <a:ext cx="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71600" y="1600200"/>
              <a:ext cx="129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3ABED-51B9-4BE4-9CB2-21B57684D4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1219320" y="5791320"/>
            <a:ext cx="5638320" cy="307080"/>
            <a:chOff x="1219320" y="5791320"/>
            <a:chExt cx="5638320" cy="307080"/>
          </a:xfrm>
        </p:grpSpPr>
        <p:sp>
          <p:nvSpPr>
            <p:cNvPr id="236" name=""/>
            <p:cNvSpPr/>
            <p:nvPr/>
          </p:nvSpPr>
          <p:spPr>
            <a:xfrm>
              <a:off x="1600200" y="5791320"/>
              <a:ext cx="525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nk to </a:t>
              </a: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rocessor 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/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Core X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using connector channel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19320" y="594324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219320" y="5991120"/>
            <a:ext cx="5790600" cy="307080"/>
            <a:chOff x="1219320" y="5991120"/>
            <a:chExt cx="5790600" cy="307080"/>
          </a:xfrm>
        </p:grpSpPr>
        <p:sp>
          <p:nvSpPr>
            <p:cNvPr id="239" name=""/>
            <p:cNvSpPr/>
            <p:nvPr/>
          </p:nvSpPr>
          <p:spPr>
            <a:xfrm>
              <a:off x="1600200" y="5991120"/>
              <a:ext cx="540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nk to </a:t>
              </a: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rocessor 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/ </a:t>
              </a:r>
              <a:r>
                <a:rPr b="1" lang="en-US" sz="1400" spc="-1" strike="noStrike">
                  <a:solidFill>
                    <a:srgbClr val="99cc00"/>
                  </a:solidFill>
                  <a:latin typeface="Arial"/>
                </a:rPr>
                <a:t>Core Y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using connector channel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19320" y="6143760"/>
              <a:ext cx="380880" cy="0"/>
            </a:xfrm>
            <a:prstGeom prst="line">
              <a:avLst/>
            </a:prstGeom>
            <a:ln w="28440">
              <a:solidFill>
                <a:srgbClr val="66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219320" y="6172200"/>
            <a:ext cx="4876200" cy="307080"/>
            <a:chOff x="1219320" y="6172200"/>
            <a:chExt cx="4876200" cy="307080"/>
          </a:xfrm>
        </p:grpSpPr>
        <p:sp>
          <p:nvSpPr>
            <p:cNvPr id="242" name=""/>
            <p:cNvSpPr/>
            <p:nvPr/>
          </p:nvSpPr>
          <p:spPr>
            <a:xfrm>
              <a:off x="1600200" y="6172200"/>
              <a:ext cx="449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nk to </a:t>
              </a: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Processor 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using connector channel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19320" y="6324480"/>
              <a:ext cx="38088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447920" y="3808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cenari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1219320"/>
            <a:ext cx="457200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S vendor supplies  ECL connector and target debug monitor using standard IT HW conn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rd party vendor supplies SW debugg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/board vendor supplies ports of OSV’s target debug moni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80880" y="1676520"/>
            <a:ext cx="5400720" cy="3809880"/>
            <a:chOff x="380880" y="1676520"/>
            <a:chExt cx="5400720" cy="3809880"/>
          </a:xfrm>
        </p:grpSpPr>
        <p:sp>
          <p:nvSpPr>
            <p:cNvPr id="247" name=""/>
            <p:cNvSpPr/>
            <p:nvPr/>
          </p:nvSpPr>
          <p:spPr>
            <a:xfrm>
              <a:off x="1285920" y="2471760"/>
              <a:ext cx="2852640" cy="6094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105440" y="1938240"/>
              <a:ext cx="304560" cy="16765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48120" y="3505320"/>
              <a:ext cx="2133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nection Dev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819440" y="4071960"/>
              <a:ext cx="1828800" cy="68580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43280" y="4395960"/>
              <a:ext cx="761760" cy="3333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38200" y="1938240"/>
              <a:ext cx="1143000" cy="45720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05080" y="3171960"/>
              <a:ext cx="838080" cy="257040"/>
            </a:xfrm>
            <a:prstGeom prst="rect">
              <a:avLst/>
            </a:prstGeom>
            <a:solidFill>
              <a:srgbClr val="cc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981000" y="1938240"/>
              <a:ext cx="304920" cy="16765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133640" y="2471760"/>
              <a:ext cx="228600" cy="609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57520" y="4224240"/>
              <a:ext cx="152280" cy="76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479680" y="3581280"/>
              <a:ext cx="507960" cy="642960"/>
            </a:xfrm>
            <a:custGeom>
              <a:avLst/>
              <a:gdLst/>
              <a:ahLst/>
              <a:rect l="l" t="t" r="r" b="b"/>
              <a:pathLst>
                <a:path w="320" h="384">
                  <a:moveTo>
                    <a:pt x="160" y="0"/>
                  </a:moveTo>
                  <a:cubicBezTo>
                    <a:pt x="96" y="16"/>
                    <a:pt x="32" y="32"/>
                    <a:pt x="16" y="48"/>
                  </a:cubicBezTo>
                  <a:cubicBezTo>
                    <a:pt x="0" y="64"/>
                    <a:pt x="16" y="80"/>
                    <a:pt x="64" y="96"/>
                  </a:cubicBezTo>
                  <a:cubicBezTo>
                    <a:pt x="112" y="112"/>
                    <a:pt x="288" y="120"/>
                    <a:pt x="304" y="144"/>
                  </a:cubicBezTo>
                  <a:cubicBezTo>
                    <a:pt x="320" y="168"/>
                    <a:pt x="184" y="200"/>
                    <a:pt x="160" y="240"/>
                  </a:cubicBezTo>
                  <a:cubicBezTo>
                    <a:pt x="136" y="280"/>
                    <a:pt x="160" y="288"/>
                    <a:pt x="160" y="38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728720" y="232416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28720" y="2776680"/>
              <a:ext cx="83844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81200" y="2776680"/>
              <a:ext cx="0" cy="5331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81200" y="3270240"/>
              <a:ext cx="85680" cy="158760"/>
            </a:xfrm>
            <a:custGeom>
              <a:avLst/>
              <a:gdLst/>
              <a:ahLst/>
              <a:rect l="l" t="t" r="r" b="b"/>
              <a:pathLst>
                <a:path w="97" h="169">
                  <a:moveTo>
                    <a:pt x="0" y="0"/>
                  </a:moveTo>
                  <a:lnTo>
                    <a:pt x="97" y="1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19280" y="3581280"/>
              <a:ext cx="507960" cy="642960"/>
            </a:xfrm>
            <a:custGeom>
              <a:avLst/>
              <a:gdLst/>
              <a:ahLst/>
              <a:rect l="l" t="t" r="r" b="b"/>
              <a:pathLst>
                <a:path w="320" h="384">
                  <a:moveTo>
                    <a:pt x="160" y="0"/>
                  </a:moveTo>
                  <a:cubicBezTo>
                    <a:pt x="96" y="16"/>
                    <a:pt x="32" y="32"/>
                    <a:pt x="16" y="48"/>
                  </a:cubicBezTo>
                  <a:cubicBezTo>
                    <a:pt x="0" y="64"/>
                    <a:pt x="16" y="80"/>
                    <a:pt x="64" y="96"/>
                  </a:cubicBezTo>
                  <a:cubicBezTo>
                    <a:pt x="112" y="112"/>
                    <a:pt x="288" y="120"/>
                    <a:pt x="304" y="144"/>
                  </a:cubicBezTo>
                  <a:cubicBezTo>
                    <a:pt x="320" y="168"/>
                    <a:pt x="184" y="200"/>
                    <a:pt x="160" y="240"/>
                  </a:cubicBezTo>
                  <a:cubicBezTo>
                    <a:pt x="136" y="280"/>
                    <a:pt x="160" y="288"/>
                    <a:pt x="160" y="38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648240" y="414828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rget 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14400" y="167652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ol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95600" y="22431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2885760" y="2624040"/>
              <a:ext cx="60948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86120" y="2624040"/>
              <a:ext cx="0" cy="76212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85920" y="2471760"/>
              <a:ext cx="281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86120" y="1938240"/>
              <a:ext cx="1143000" cy="45720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428920" y="168120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ol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048040" y="4452840"/>
              <a:ext cx="22860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52600" y="4452840"/>
              <a:ext cx="228600" cy="22860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191040" y="4452840"/>
              <a:ext cx="228600" cy="228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2157480" y="4286160"/>
              <a:ext cx="0" cy="15264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52800" y="4267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43200" y="3371760"/>
              <a:ext cx="128520" cy="74880"/>
            </a:xfrm>
            <a:custGeom>
              <a:avLst/>
              <a:gdLst/>
              <a:ahLst/>
              <a:rect l="l" t="t" r="r" b="b"/>
              <a:pathLst>
                <a:path w="86" h="153">
                  <a:moveTo>
                    <a:pt x="86" y="0"/>
                  </a:moveTo>
                  <a:lnTo>
                    <a:pt x="0" y="15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71840" y="3581280"/>
              <a:ext cx="507960" cy="642960"/>
            </a:xfrm>
            <a:custGeom>
              <a:avLst/>
              <a:gdLst/>
              <a:ahLst/>
              <a:rect l="l" t="t" r="r" b="b"/>
              <a:pathLst>
                <a:path w="320" h="384">
                  <a:moveTo>
                    <a:pt x="160" y="0"/>
                  </a:moveTo>
                  <a:cubicBezTo>
                    <a:pt x="96" y="16"/>
                    <a:pt x="32" y="32"/>
                    <a:pt x="16" y="48"/>
                  </a:cubicBezTo>
                  <a:cubicBezTo>
                    <a:pt x="0" y="64"/>
                    <a:pt x="16" y="80"/>
                    <a:pt x="64" y="96"/>
                  </a:cubicBezTo>
                  <a:cubicBezTo>
                    <a:pt x="112" y="112"/>
                    <a:pt x="288" y="120"/>
                    <a:pt x="304" y="144"/>
                  </a:cubicBezTo>
                  <a:cubicBezTo>
                    <a:pt x="320" y="168"/>
                    <a:pt x="184" y="200"/>
                    <a:pt x="160" y="240"/>
                  </a:cubicBezTo>
                  <a:cubicBezTo>
                    <a:pt x="136" y="280"/>
                    <a:pt x="160" y="288"/>
                    <a:pt x="160" y="384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824200" y="4224240"/>
              <a:ext cx="45720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95800" y="4210200"/>
              <a:ext cx="0" cy="22860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00320" y="2319480"/>
              <a:ext cx="0" cy="30456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00320" y="2624040"/>
              <a:ext cx="533520" cy="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733840" y="26240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33840" y="2624040"/>
              <a:ext cx="9360" cy="80496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43040" y="3581280"/>
              <a:ext cx="507960" cy="642960"/>
            </a:xfrm>
            <a:custGeom>
              <a:avLst/>
              <a:gdLst/>
              <a:ahLst/>
              <a:rect l="l" t="t" r="r" b="b"/>
              <a:pathLst>
                <a:path w="320" h="384">
                  <a:moveTo>
                    <a:pt x="160" y="0"/>
                  </a:moveTo>
                  <a:cubicBezTo>
                    <a:pt x="96" y="16"/>
                    <a:pt x="32" y="32"/>
                    <a:pt x="16" y="48"/>
                  </a:cubicBezTo>
                  <a:cubicBezTo>
                    <a:pt x="0" y="64"/>
                    <a:pt x="16" y="80"/>
                    <a:pt x="64" y="96"/>
                  </a:cubicBezTo>
                  <a:cubicBezTo>
                    <a:pt x="112" y="112"/>
                    <a:pt x="288" y="120"/>
                    <a:pt x="304" y="144"/>
                  </a:cubicBezTo>
                  <a:cubicBezTo>
                    <a:pt x="320" y="168"/>
                    <a:pt x="184" y="200"/>
                    <a:pt x="160" y="240"/>
                  </a:cubicBezTo>
                  <a:cubicBezTo>
                    <a:pt x="136" y="280"/>
                    <a:pt x="160" y="288"/>
                    <a:pt x="160" y="384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2504880" y="4376880"/>
              <a:ext cx="228600" cy="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2190240" y="5477040"/>
              <a:ext cx="1908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33840" y="4300560"/>
              <a:ext cx="0" cy="7632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05240" y="4376880"/>
              <a:ext cx="0" cy="7596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40160" y="3157560"/>
              <a:ext cx="7452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92440" y="3157560"/>
              <a:ext cx="7452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44720" y="3157560"/>
              <a:ext cx="7452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43040" y="3429000"/>
              <a:ext cx="381240" cy="1522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0880" y="3200400"/>
              <a:ext cx="17528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nector plug-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29120" y="2471760"/>
              <a:ext cx="228600" cy="609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48120" y="274320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clipse I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914560" y="3505320"/>
              <a:ext cx="3049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2133720" y="3276360"/>
              <a:ext cx="1522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133720" y="3048120"/>
            <a:ext cx="114300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4114800"/>
            <a:ext cx="38088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40840" y="3809880"/>
            <a:ext cx="202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arget Debug Moni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3429000" y="39621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61A98-D93E-4077-A886-E257FB513F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1219320" y="5791320"/>
            <a:ext cx="5790600" cy="687960"/>
            <a:chOff x="1219320" y="5791320"/>
            <a:chExt cx="5790600" cy="687960"/>
          </a:xfrm>
        </p:grpSpPr>
        <p:grpSp>
          <p:nvGrpSpPr>
            <p:cNvPr id="303" name=""/>
            <p:cNvGrpSpPr/>
            <p:nvPr/>
          </p:nvGrpSpPr>
          <p:grpSpPr>
            <a:xfrm>
              <a:off x="1219320" y="5791320"/>
              <a:ext cx="5638320" cy="307080"/>
              <a:chOff x="1219320" y="5791320"/>
              <a:chExt cx="5638320" cy="307080"/>
            </a:xfrm>
          </p:grpSpPr>
          <p:sp>
            <p:nvSpPr>
              <p:cNvPr id="304" name=""/>
              <p:cNvSpPr/>
              <p:nvPr/>
            </p:nvSpPr>
            <p:spPr>
              <a:xfrm>
                <a:off x="1600200" y="5791320"/>
                <a:ext cx="525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ink to </a:t>
                </a: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Processor 1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/ 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</a:rPr>
                  <a:t>Core X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using connector channel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219320" y="594324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1219320" y="5991120"/>
              <a:ext cx="5790600" cy="307080"/>
              <a:chOff x="1219320" y="5991120"/>
              <a:chExt cx="5790600" cy="307080"/>
            </a:xfrm>
          </p:grpSpPr>
          <p:sp>
            <p:nvSpPr>
              <p:cNvPr id="307" name=""/>
              <p:cNvSpPr/>
              <p:nvPr/>
            </p:nvSpPr>
            <p:spPr>
              <a:xfrm>
                <a:off x="1600200" y="5991120"/>
                <a:ext cx="540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ink to </a:t>
                </a: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Processor 1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/ </a:t>
                </a:r>
                <a:r>
                  <a:rPr b="1" lang="en-US" sz="1400" spc="-1" strike="noStrike">
                    <a:solidFill>
                      <a:srgbClr val="99cc00"/>
                    </a:solidFill>
                    <a:latin typeface="Arial"/>
                  </a:rPr>
                  <a:t>Core Y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using connector channel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219320" y="6143760"/>
                <a:ext cx="380880" cy="0"/>
              </a:xfrm>
              <a:prstGeom prst="line">
                <a:avLst/>
              </a:prstGeom>
              <a:ln w="28440">
                <a:solidFill>
                  <a:srgbClr val="6699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1219320" y="6172200"/>
              <a:ext cx="4876200" cy="307080"/>
              <a:chOff x="1219320" y="6172200"/>
              <a:chExt cx="4876200" cy="307080"/>
            </a:xfrm>
          </p:grpSpPr>
          <p:sp>
            <p:nvSpPr>
              <p:cNvPr id="310" name=""/>
              <p:cNvSpPr/>
              <p:nvPr/>
            </p:nvSpPr>
            <p:spPr>
              <a:xfrm>
                <a:off x="1600200" y="6172200"/>
                <a:ext cx="4495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ink to </a:t>
                </a:r>
                <a:r>
                  <a:rPr b="1" lang="en-US" sz="1400" spc="-1" strike="noStrike">
                    <a:solidFill>
                      <a:srgbClr val="3333cc"/>
                    </a:solidFill>
                    <a:latin typeface="Arial"/>
                  </a:rPr>
                  <a:t>Processor 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using connector channel 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219320" y="6324480"/>
                <a:ext cx="38088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2" name=""/>
          <p:cNvSpPr/>
          <p:nvPr/>
        </p:nvSpPr>
        <p:spPr>
          <a:xfrm>
            <a:off x="1447920" y="3808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cenario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0" y="1219320"/>
            <a:ext cx="457200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vendor supplies board, connection device &amp; ECL conn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rd party vendor supplies a debug tool for standard core X of processor 1 or processo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vendor supplies debug tool for custom special purpose proces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457200" y="1676520"/>
            <a:ext cx="5400720" cy="3809880"/>
            <a:chOff x="457200" y="1676520"/>
            <a:chExt cx="5400720" cy="3809880"/>
          </a:xfrm>
        </p:grpSpPr>
        <p:grpSp>
          <p:nvGrpSpPr>
            <p:cNvPr id="315" name=""/>
            <p:cNvGrpSpPr/>
            <p:nvPr/>
          </p:nvGrpSpPr>
          <p:grpSpPr>
            <a:xfrm>
              <a:off x="457200" y="1676520"/>
              <a:ext cx="5400720" cy="3809880"/>
              <a:chOff x="457200" y="1676520"/>
              <a:chExt cx="5400720" cy="3809880"/>
            </a:xfrm>
          </p:grpSpPr>
          <p:sp>
            <p:nvSpPr>
              <p:cNvPr id="316" name=""/>
              <p:cNvSpPr/>
              <p:nvPr/>
            </p:nvSpPr>
            <p:spPr>
              <a:xfrm>
                <a:off x="1362240" y="2471760"/>
                <a:ext cx="2852640" cy="6094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181760" y="1938240"/>
                <a:ext cx="304560" cy="16765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124440" y="3505320"/>
                <a:ext cx="213336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nnection Devi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895760" y="4071960"/>
                <a:ext cx="1828800" cy="68580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019600" y="4395960"/>
                <a:ext cx="761760" cy="33336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514520" y="1938240"/>
                <a:ext cx="1143000" cy="45720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381400" y="3171960"/>
                <a:ext cx="838080" cy="257040"/>
              </a:xfrm>
              <a:prstGeom prst="rect">
                <a:avLst/>
              </a:prstGeom>
              <a:solidFill>
                <a:srgbClr val="cc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057320" y="1938240"/>
                <a:ext cx="304920" cy="16765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209960" y="2471760"/>
                <a:ext cx="228600" cy="6094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733840" y="4224240"/>
                <a:ext cx="15228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556000" y="3581280"/>
                <a:ext cx="507960" cy="642960"/>
              </a:xfrm>
              <a:custGeom>
                <a:avLst/>
                <a:gdLst/>
                <a:ahLst/>
                <a:rect l="l" t="t" r="r" b="b"/>
                <a:pathLst>
                  <a:path w="320" h="384">
                    <a:moveTo>
                      <a:pt x="160" y="0"/>
                    </a:moveTo>
                    <a:cubicBezTo>
                      <a:pt x="96" y="16"/>
                      <a:pt x="32" y="32"/>
                      <a:pt x="16" y="48"/>
                    </a:cubicBezTo>
                    <a:cubicBezTo>
                      <a:pt x="0" y="64"/>
                      <a:pt x="16" y="80"/>
                      <a:pt x="64" y="96"/>
                    </a:cubicBezTo>
                    <a:cubicBezTo>
                      <a:pt x="112" y="112"/>
                      <a:pt x="288" y="120"/>
                      <a:pt x="304" y="144"/>
                    </a:cubicBezTo>
                    <a:cubicBezTo>
                      <a:pt x="320" y="168"/>
                      <a:pt x="184" y="200"/>
                      <a:pt x="160" y="240"/>
                    </a:cubicBezTo>
                    <a:cubicBezTo>
                      <a:pt x="136" y="280"/>
                      <a:pt x="160" y="288"/>
                      <a:pt x="160" y="38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05040" y="2324160"/>
                <a:ext cx="0" cy="457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05040" y="2776680"/>
                <a:ext cx="838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657520" y="2776680"/>
                <a:ext cx="0" cy="53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657520" y="3270240"/>
                <a:ext cx="85680" cy="158760"/>
              </a:xfrm>
              <a:custGeom>
                <a:avLst/>
                <a:gdLst/>
                <a:ahLst/>
                <a:rect l="l" t="t" r="r" b="b"/>
                <a:pathLst>
                  <a:path w="97" h="169">
                    <a:moveTo>
                      <a:pt x="0" y="0"/>
                    </a:moveTo>
                    <a:lnTo>
                      <a:pt x="97" y="169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595600" y="3581280"/>
                <a:ext cx="507960" cy="642960"/>
              </a:xfrm>
              <a:custGeom>
                <a:avLst/>
                <a:gdLst/>
                <a:ahLst/>
                <a:rect l="l" t="t" r="r" b="b"/>
                <a:pathLst>
                  <a:path w="320" h="384">
                    <a:moveTo>
                      <a:pt x="160" y="0"/>
                    </a:moveTo>
                    <a:cubicBezTo>
                      <a:pt x="96" y="16"/>
                      <a:pt x="32" y="32"/>
                      <a:pt x="16" y="48"/>
                    </a:cubicBezTo>
                    <a:cubicBezTo>
                      <a:pt x="0" y="64"/>
                      <a:pt x="16" y="80"/>
                      <a:pt x="64" y="96"/>
                    </a:cubicBezTo>
                    <a:cubicBezTo>
                      <a:pt x="112" y="112"/>
                      <a:pt x="288" y="120"/>
                      <a:pt x="304" y="144"/>
                    </a:cubicBezTo>
                    <a:cubicBezTo>
                      <a:pt x="320" y="168"/>
                      <a:pt x="184" y="200"/>
                      <a:pt x="160" y="240"/>
                    </a:cubicBezTo>
                    <a:cubicBezTo>
                      <a:pt x="136" y="280"/>
                      <a:pt x="160" y="288"/>
                      <a:pt x="160" y="38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724560" y="4148280"/>
                <a:ext cx="2133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arget Syste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990720" y="1676520"/>
                <a:ext cx="2133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ool 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571920" y="2243160"/>
                <a:ext cx="0" cy="380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2962080" y="2624040"/>
                <a:ext cx="6094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962440" y="2624040"/>
                <a:ext cx="0" cy="76212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62240" y="2471760"/>
                <a:ext cx="2819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962440" y="1938240"/>
                <a:ext cx="1143000" cy="45720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505240" y="1681200"/>
                <a:ext cx="2133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ool 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124360" y="445284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428920" y="4452840"/>
                <a:ext cx="228600" cy="22860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267360" y="4452840"/>
                <a:ext cx="228600" cy="2286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2233800" y="4286160"/>
                <a:ext cx="0" cy="152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29120" y="4267080"/>
                <a:ext cx="6094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819520" y="3371760"/>
                <a:ext cx="128520" cy="74880"/>
              </a:xfrm>
              <a:custGeom>
                <a:avLst/>
                <a:gdLst/>
                <a:ahLst/>
                <a:rect l="l" t="t" r="r" b="b"/>
                <a:pathLst>
                  <a:path w="86" h="153">
                    <a:moveTo>
                      <a:pt x="86" y="0"/>
                    </a:moveTo>
                    <a:lnTo>
                      <a:pt x="0" y="153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648160" y="3581280"/>
                <a:ext cx="507960" cy="642960"/>
              </a:xfrm>
              <a:custGeom>
                <a:avLst/>
                <a:gdLst/>
                <a:ahLst/>
                <a:rect l="l" t="t" r="r" b="b"/>
                <a:pathLst>
                  <a:path w="320" h="384">
                    <a:moveTo>
                      <a:pt x="160" y="0"/>
                    </a:moveTo>
                    <a:cubicBezTo>
                      <a:pt x="96" y="16"/>
                      <a:pt x="32" y="32"/>
                      <a:pt x="16" y="48"/>
                    </a:cubicBezTo>
                    <a:cubicBezTo>
                      <a:pt x="0" y="64"/>
                      <a:pt x="16" y="80"/>
                      <a:pt x="64" y="96"/>
                    </a:cubicBezTo>
                    <a:cubicBezTo>
                      <a:pt x="112" y="112"/>
                      <a:pt x="288" y="120"/>
                      <a:pt x="304" y="144"/>
                    </a:cubicBezTo>
                    <a:cubicBezTo>
                      <a:pt x="320" y="168"/>
                      <a:pt x="184" y="200"/>
                      <a:pt x="160" y="240"/>
                    </a:cubicBezTo>
                    <a:cubicBezTo>
                      <a:pt x="136" y="280"/>
                      <a:pt x="160" y="288"/>
                      <a:pt x="160" y="384"/>
                    </a:cubicBezTo>
                  </a:path>
                </a:pathLst>
              </a:custGeom>
              <a:noFill/>
              <a:ln w="38160">
                <a:solidFill>
                  <a:srgbClr val="0000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00520" y="4224240"/>
                <a:ext cx="4572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372120" y="4210200"/>
                <a:ext cx="0" cy="22860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76640" y="2319480"/>
                <a:ext cx="0" cy="304560"/>
              </a:xfrm>
              <a:prstGeom prst="line">
                <a:avLst/>
              </a:prstGeom>
              <a:ln w="3816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276640" y="2624040"/>
                <a:ext cx="53352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810160" y="26240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10160" y="2624040"/>
                <a:ext cx="9360" cy="804960"/>
              </a:xfrm>
              <a:prstGeom prst="line">
                <a:avLst/>
              </a:prstGeom>
              <a:ln w="3816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619360" y="3581280"/>
                <a:ext cx="507960" cy="642960"/>
              </a:xfrm>
              <a:custGeom>
                <a:avLst/>
                <a:gdLst/>
                <a:ahLst/>
                <a:rect l="l" t="t" r="r" b="b"/>
                <a:pathLst>
                  <a:path w="320" h="384">
                    <a:moveTo>
                      <a:pt x="160" y="0"/>
                    </a:moveTo>
                    <a:cubicBezTo>
                      <a:pt x="96" y="16"/>
                      <a:pt x="32" y="32"/>
                      <a:pt x="16" y="48"/>
                    </a:cubicBezTo>
                    <a:cubicBezTo>
                      <a:pt x="0" y="64"/>
                      <a:pt x="16" y="80"/>
                      <a:pt x="64" y="96"/>
                    </a:cubicBezTo>
                    <a:cubicBezTo>
                      <a:pt x="112" y="112"/>
                      <a:pt x="288" y="120"/>
                      <a:pt x="304" y="144"/>
                    </a:cubicBezTo>
                    <a:cubicBezTo>
                      <a:pt x="320" y="168"/>
                      <a:pt x="184" y="200"/>
                      <a:pt x="160" y="240"/>
                    </a:cubicBezTo>
                    <a:cubicBezTo>
                      <a:pt x="136" y="280"/>
                      <a:pt x="160" y="288"/>
                      <a:pt x="160" y="384"/>
                    </a:cubicBezTo>
                  </a:path>
                </a:pathLst>
              </a:custGeom>
              <a:noFill/>
              <a:ln w="3816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2581200" y="4376880"/>
                <a:ext cx="22860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flipV="1">
                <a:off x="2266560" y="5477040"/>
                <a:ext cx="1908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810160" y="4300560"/>
                <a:ext cx="0" cy="76320"/>
              </a:xfrm>
              <a:prstGeom prst="line">
                <a:avLst/>
              </a:prstGeom>
              <a:ln w="3816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581560" y="4376880"/>
                <a:ext cx="0" cy="75960"/>
              </a:xfrm>
              <a:prstGeom prst="line">
                <a:avLst/>
              </a:prstGeom>
              <a:ln w="3816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616480" y="3157560"/>
                <a:ext cx="74520" cy="152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768760" y="3157560"/>
                <a:ext cx="74520" cy="152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21040" y="3157560"/>
                <a:ext cx="74520" cy="152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619360" y="3429000"/>
                <a:ext cx="381240" cy="15228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57200" y="3200400"/>
                <a:ext cx="175284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nnector plug-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105440" y="2471760"/>
                <a:ext cx="228600" cy="6094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124440" y="2743200"/>
                <a:ext cx="1600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clipse I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990880" y="3505320"/>
                <a:ext cx="30492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2210040" y="327636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1752480" y="2971800"/>
              <a:ext cx="2057400" cy="1905120"/>
              <a:chOff x="1752480" y="2971800"/>
              <a:chExt cx="2057400" cy="1905120"/>
            </a:xfrm>
          </p:grpSpPr>
          <p:sp>
            <p:nvSpPr>
              <p:cNvPr id="368" name=""/>
              <p:cNvSpPr/>
              <p:nvPr/>
            </p:nvSpPr>
            <p:spPr>
              <a:xfrm>
                <a:off x="2209680" y="2971800"/>
                <a:ext cx="1143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209680" y="2971800"/>
                <a:ext cx="0" cy="990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352680" y="2971800"/>
                <a:ext cx="0" cy="990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1752480" y="3962520"/>
                <a:ext cx="4572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3352680" y="3962520"/>
                <a:ext cx="4572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752480" y="3962520"/>
                <a:ext cx="0" cy="914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809880" y="3962520"/>
                <a:ext cx="0" cy="914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752480" y="4876920"/>
                <a:ext cx="2057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1C8B1-5720-4F58-9449-C6B28781A8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9T02:00:46Z</dcterms:created>
  <dc:creator>Celeste Frogner</dc:creator>
  <dc:description/>
  <dc:language>en-US</dc:language>
  <cp:lastModifiedBy>Peter Lachner</cp:lastModifiedBy>
  <cp:lastPrinted>1998-11-04T21:31:56Z</cp:lastPrinted>
  <dcterms:modified xsi:type="dcterms:W3CDTF">2005-11-14T13:29:40Z</dcterms:modified>
  <cp:revision>40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Type">
    <vt:lpwstr>SSG ppt Template</vt:lpwstr>
  </property>
</Properties>
</file>