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EBB8-7F13-4D1C-A4EC-B464D9D5F9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2A3B-DB0B-4E99-A5AF-50295CDDC6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918A-4604-45E3-8125-48497582A3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6017-F58F-4CC2-9D39-10DFF04EE4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C82E-3DE9-4AA4-B1E0-77551118BA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7BD7-DD1A-45A6-9967-26DE9B4E5F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7E57-FF3B-4C3B-8865-2D47C5B48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7620-F9C4-49FE-B4BC-9F9471355B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C727-412A-4D93-98A1-721B320960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0F01-2F34-42D1-8983-1340855AAA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499F-A3F8-411F-8F83-0276BFD585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740F-1463-4BFF-8466-2A7C3A4A4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9280" y="659772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195040" y="6477120"/>
            <a:ext cx="1105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FFBD-DACF-472C-B659-618C5F9A84A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14560" y="655308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1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D9A2-74F0-4AD5-B767-2622ECF50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638964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440" y="661356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SDP - Target Mana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Oberhuber, Wind Riv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 Website (Icon + Content)  - Martin, Do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T presentation – Martin, Ewa, John, Daymon (Add legend to Base Ar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ssh / team people – David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E Docs, Sample, Release – David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nch Actions – Initial Design – Mar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enarios for various environments – Every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 schema / example for Register Files &amp; Boardfiles – HW Debug 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HW Folks – George (A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T Meeting Ottawa Oct. 25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Phone Conf. Monday Nov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F2F meeting Feb 21-23 (DD+TM combined), Toro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Con San Jose, Mar. 20-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 3.2 train: Platform – April; 3.2 – End of 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API draft – MS3 (Nov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API freeze – MS4 (Dec.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T 3.1 train: with 3.2 – End of 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From the DSDP Websit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arget Managemen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s data models and frame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a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s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argets, processors, cores, processes, threads; local, remote or deploy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 Management sup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wnlo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ftware and 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ingle or multiple configuratio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ing and stopping co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bugging processes and threa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ing target inform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nfigure and Manage”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fferent hardware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fferent connec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groups of targets to execute common operation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access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arget configurations to be shar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plug in wizards and property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common data mode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SE Connec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1600200"/>
          <a:ext cx="7348680" cy="3352680"/>
        </p:xfrm>
        <a:graphic>
          <a:graphicData uri="http://schemas.openxmlformats.org/drawingml/2006/table">
            <a:tbl>
              <a:tblPr/>
              <a:tblGrid>
                <a:gridCol w="3675240"/>
                <a:gridCol w="367344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 Software D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” Software D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(changing! E.g. Multiplatfor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connection sche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ly TCP/I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w, unreliable connec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 TCP/I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vendors – need to be modul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 ba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d targets / access restric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tunnels for deployed targ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838080" y="5562720"/>
            <a:ext cx="7620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a pluggable framework for connectivity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ne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523520"/>
            <a:ext cx="734868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 services to be provided incl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-Awar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File System (for File down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 mappings for cross-mounted fil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Process Explorer (Query target info, Kernel Obje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rnel Module Down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 that do not necessarily need an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Console (Serial, TCP/IP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 / Reboot (Start and Stop C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 download of arbitrary images (e.g. via JT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ut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ger Laun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pluggable service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SE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autodetect servic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2514600"/>
            <a:ext cx="7467480" cy="5335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SDP-TM Base Architectur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876920"/>
            <a:ext cx="7467480" cy="9144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124080"/>
            <a:ext cx="7467480" cy="1676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3880"/>
            <a:ext cx="7467480" cy="9144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76920"/>
            <a:ext cx="1320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Mod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89280" y="3124080"/>
            <a:ext cx="1288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9640" y="1523880"/>
            <a:ext cx="960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57400"/>
            <a:ext cx="213336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Fil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360" y="2514600"/>
            <a:ext cx="2066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efined 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057400"/>
            <a:ext cx="213336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Process L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1676520"/>
            <a:ext cx="3505320" cy="27648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(Download, Reset, Debug, Flash, 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666880"/>
            <a:ext cx="83844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2666880"/>
            <a:ext cx="83808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4419720"/>
            <a:ext cx="4648320" cy="2764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5410080"/>
            <a:ext cx="1904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410080"/>
            <a:ext cx="1904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410080"/>
            <a:ext cx="1904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Sha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038480"/>
            <a:ext cx="2133360" cy="276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P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038480"/>
            <a:ext cx="2133720" cy="276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5400000"/>
          </a:gra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038480"/>
            <a:ext cx="2133720" cy="2764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de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2057400"/>
            <a:ext cx="213336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Sh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1676520"/>
            <a:ext cx="1905120" cy="276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Sequenc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657600"/>
            <a:ext cx="4648320" cy="27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Configuration (Plumb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276720"/>
            <a:ext cx="464832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efined connection types (connector cha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029200"/>
            <a:ext cx="1676160" cy="27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5029200"/>
            <a:ext cx="1676520" cy="276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029200"/>
            <a:ext cx="1676520" cy="27648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prstDash val="lg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2666880"/>
            <a:ext cx="14475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able Wid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2960" y="6019920"/>
            <a:ext cx="89679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:         Existing components in RSE,         Design TBD,          Analysis TBD,        Extension Point,        Fixed implem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6095880"/>
            <a:ext cx="95400" cy="10476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6095880"/>
            <a:ext cx="95400" cy="1047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6095880"/>
            <a:ext cx="95400" cy="104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6095880"/>
            <a:ext cx="95040" cy="1047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6095880"/>
            <a:ext cx="95400" cy="10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hat can we offer CDT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 as an optional add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s: Connections, Processes, Sh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: Download, Reboot, Run, 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ebugger integration it is harder but we can also pro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connection configuration for existing debu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selection, download actions, launch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n’t want a dependency to CDT in our launch (e.g. project selection, build-before-laun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s consist of 2 parts – Tool-specific and Target-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T Launches to provide extension po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ur connection selection, download actions, debugger laun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DT to register Tool-specific features of Launch as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hat can we do when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and Analysi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 Use Cases /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nnection Wizard and Properties use cases /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T Integration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Actions: Interface and extension point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 for “open” target definitions, targe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current RSE EMF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RSE Javadoc to work on model until RSE i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 extension point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Type (aka Connector Chain Template) extension point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detec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hat can we do when? (Continued)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1 (Janu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E unleashed! – Release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2 (With Eclipse 3.2, End of Ju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T Integration – Release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efinition &amp; Selection, “Remote Debug” Launch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based target connections (FTP, Telnet, ssh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” and “Run” Launch actions based on abo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Connectors for HW Debuggers (Preconfigured Connection Typ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Model for HW Debugging (complex connector set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Launch 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plumbing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for autode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rs for Target access control  (shared board la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tunneling conn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9:44:13Z</dcterms:created>
  <dc:creator>Ian Skerrett</dc:creator>
  <dc:description/>
  <dc:language>en-US</dc:language>
  <cp:lastModifiedBy>Martin Oberhuber</cp:lastModifiedBy>
  <dcterms:modified xsi:type="dcterms:W3CDTF">2005-10-17T17:51:20Z</dcterms:modified>
  <cp:revision>275</cp:revision>
  <dc:subject/>
  <dc:title>Slide 1</dc:title>
</cp:coreProperties>
</file>