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D9289-05A3-4E1C-A113-9F644AD662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D142572-157F-4D66-8E61-E870842C4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AB24C45-77F0-4650-ADDE-00233C8E5A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F0971E46-3F98-4997-B550-AF1684E580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4477B7-B805-4E35-9ECC-ACAE788DC3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B31077-96DE-4B5B-8CB0-B8077AC61C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5D1A3B-E416-4822-B5B3-276F42B190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432E96A-5A2A-4D0C-8E99-7DA61FC727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27199D-6E07-4F7F-A8ED-9B4148AD30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E6D07A9-EF1D-4027-87F0-6C78C7E45C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6B63BDB-C5AA-4C3B-946F-E4A8B9D87C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D03D3-5D2E-4461-A9D2-41403B69F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C5766B7-AA2B-4BDA-A0AF-303824A018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EBA1CCE-C339-42E5-99ED-F1B6369098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31EA9B0-4C16-4949-88B3-1DC0D32E9D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10769FB8-FA38-4595-846C-B247C4CE90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2DB1B3CD-B3A5-49F9-9A0A-790DEC410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5B831-8CAA-4F0A-9336-E8F249A73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9A806C7-AFFC-46D4-8D18-2CE679CBAC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C0A025-5FE7-4FBC-AB56-B0033CA6E2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3DCEC1B-CF09-456F-A118-7B29A76813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5681D04-0870-46A8-92C5-68112207B2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F3C6E14-FA56-493E-904F-732E12B547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EBA463E-4118-447E-9E13-23740E75F5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71BC-9C55-43E2-BD5D-89AC102A03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1447920" y="647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va Web App Dev with Eclipse WTP  |  © 2006 by IBM and Naci Dai; made available under the EPL v1.0</a:t>
            </a:r>
            <a:endParaRPr b="0" lang="en-US" sz="1000" spc="-1" strike="noStrike">
              <a:solidFill>
                <a:srgbClr val="ffffff"/>
              </a:solidFill>
              <a:latin typeface="Arial"/>
            </a:endParaRPr>
          </a:p>
        </p:txBody>
      </p:sp>
      <p:pic>
        <p:nvPicPr>
          <p:cNvPr id="6" name="" descr=""/>
          <p:cNvPicPr/>
          <p:nvPr/>
        </p:nvPicPr>
        <p:blipFill>
          <a:blip r:embed="rId3"/>
          <a:stretch/>
        </p:blipFill>
        <p:spPr>
          <a:xfrm>
            <a:off x="390600" y="95400"/>
            <a:ext cx="1336680" cy="76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6286680"/>
            <a:ext cx="9144000" cy="571320"/>
          </a:xfrm>
          <a:prstGeom prst="rect">
            <a:avLst/>
          </a:prstGeom>
          <a:ln w="0">
            <a:noFill/>
          </a:ln>
        </p:spPr>
      </p:pic>
      <p:sp>
        <p:nvSpPr>
          <p:cNvPr id="44"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lick to edit the title text format</a:t>
            </a:r>
            <a:endParaRPr b="1" lang="en-US" sz="5600" spc="-1" strike="noStrike">
              <a:solidFill>
                <a:srgbClr val="000000"/>
              </a:solidFill>
              <a:latin typeface="Arial"/>
            </a:endParaRPr>
          </a:p>
        </p:txBody>
      </p:sp>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69840" y="6456240"/>
            <a:ext cx="9099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2006 by IBM and Naci Dai; made available under the EPL v1.0 |  Santa Clara | Mar. 20, 2006</a:t>
            </a:r>
            <a:endParaRPr b="0" lang="en-US" sz="1300" spc="-1" strike="noStrike">
              <a:solidFill>
                <a:srgbClr val="ffffff"/>
              </a:solidFill>
              <a:latin typeface="Arial"/>
            </a:endParaRPr>
          </a:p>
        </p:txBody>
      </p:sp>
      <p:pic>
        <p:nvPicPr>
          <p:cNvPr id="47" name="" descr=""/>
          <p:cNvPicPr/>
          <p:nvPr/>
        </p:nvPicPr>
        <p:blipFill>
          <a:blip r:embed="rId3"/>
          <a:stretch/>
        </p:blipFill>
        <p:spPr>
          <a:xfrm>
            <a:off x="390600" y="95400"/>
            <a:ext cx="2151000" cy="123804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0240" y="1187280"/>
            <a:ext cx="7954920" cy="1470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Java™ Web Application Development with Eclipse WTP</a:t>
            </a:r>
            <a:br>
              <a:rPr sz="5000"/>
            </a:br>
            <a:br>
              <a:rPr sz="5600"/>
            </a:br>
            <a:r>
              <a:rPr b="1" lang="en-US" sz="4400" spc="-1" strike="noStrike">
                <a:solidFill>
                  <a:srgbClr val="000000"/>
                </a:solidFill>
                <a:latin typeface="Arial"/>
              </a:rPr>
              <a:t>- WTP Quick Tour</a:t>
            </a:r>
            <a:endParaRPr b="1" lang="en-US" sz="4400" spc="-1" strike="noStrike">
              <a:solidFill>
                <a:srgbClr val="000000"/>
              </a:solidFill>
              <a:latin typeface="Arial"/>
            </a:endParaRPr>
          </a:p>
        </p:txBody>
      </p:sp>
      <p:sp>
        <p:nvSpPr>
          <p:cNvPr id="86" name="PlaceHolder 2"/>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390600" y="5191200"/>
            <a:ext cx="1554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 Dai</a:t>
            </a:r>
            <a:br>
              <a:rPr sz="1800"/>
            </a:br>
            <a:r>
              <a:rPr b="0" lang="en-US" sz="1800" spc="-1" strike="noStrike">
                <a:solidFill>
                  <a:srgbClr val="000000"/>
                </a:solidFill>
                <a:latin typeface="Arial"/>
              </a:rPr>
              <a:t>eteration a.s.</a:t>
            </a:r>
            <a:endParaRPr b="0" lang="en-US" sz="1800" spc="-1" strike="noStrike">
              <a:solidFill>
                <a:srgbClr val="ffffff"/>
              </a:solidFill>
              <a:latin typeface="Arial"/>
            </a:endParaRPr>
          </a:p>
        </p:txBody>
      </p:sp>
      <p:sp>
        <p:nvSpPr>
          <p:cNvPr id="88" name=""/>
          <p:cNvSpPr/>
          <p:nvPr/>
        </p:nvSpPr>
        <p:spPr>
          <a:xfrm>
            <a:off x="2868480" y="5191200"/>
            <a:ext cx="246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Mandel</a:t>
            </a:r>
            <a:br>
              <a:rPr sz="1800"/>
            </a:br>
            <a:r>
              <a:rPr b="0" lang="en-US" sz="1800" spc="-1" strike="noStrike">
                <a:solidFill>
                  <a:srgbClr val="000000"/>
                </a:solidFill>
                <a:latin typeface="Arial"/>
              </a:rPr>
              <a:t>IBM Rational Software</a:t>
            </a:r>
            <a:endParaRPr b="0" lang="en-US" sz="1800" spc="-1" strike="noStrike">
              <a:solidFill>
                <a:srgbClr val="ffffff"/>
              </a:solidFill>
              <a:latin typeface="Arial"/>
            </a:endParaRPr>
          </a:p>
        </p:txBody>
      </p:sp>
      <p:sp>
        <p:nvSpPr>
          <p:cNvPr id="89" name=""/>
          <p:cNvSpPr/>
          <p:nvPr/>
        </p:nvSpPr>
        <p:spPr>
          <a:xfrm>
            <a:off x="5880240" y="5191200"/>
            <a:ext cx="246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hur Ryman</a:t>
            </a:r>
            <a:br>
              <a:rPr sz="1800"/>
            </a:br>
            <a:r>
              <a:rPr b="0" lang="en-US" sz="1800" spc="-1" strike="noStrike">
                <a:solidFill>
                  <a:srgbClr val="000000"/>
                </a:solidFill>
                <a:latin typeface="Arial"/>
              </a:rPr>
              <a:t>IBM Rational 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8DCFBFE-E918-4595-BF3C-9B5780CE79B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91"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WTP Quick Tou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up Your Workspac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tation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siness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sistence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85549-C43A-402D-BDEC-E002A7C09B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TP Quick Tour Agenda</a:t>
            </a:r>
            <a:endParaRPr b="0" lang="en-US" sz="2800" spc="-1" strike="noStrike">
              <a:solidFill>
                <a:srgbClr val="2f2672"/>
              </a:solidFill>
              <a:latin typeface="Arial"/>
            </a:endParaRPr>
          </a:p>
        </p:txBody>
      </p:sp>
      <p:sp>
        <p:nvSpPr>
          <p:cNvPr id="93"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TP contains a lot of tools – let’s start with an overview</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1 </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 an application server, create a Web application, develop a simple JavaServer</a:t>
            </a:r>
            <a:r>
              <a:rPr b="0" lang="en-US" sz="1400" spc="-1" strike="noStrike" baseline="30000">
                <a:solidFill>
                  <a:srgbClr val="000000"/>
                </a:solidFill>
                <a:latin typeface="Arial"/>
              </a:rPr>
              <a:t>TM</a:t>
            </a:r>
            <a:r>
              <a:rPr b="0" lang="en-US" sz="1400" spc="-1" strike="noStrike">
                <a:solidFill>
                  <a:srgbClr val="000000"/>
                </a:solidFill>
                <a:latin typeface="Arial"/>
              </a:rPr>
              <a:t> Pages (JSP) document that prints a greeting, and run it on the server.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2</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login JSP, write Java scriptlets to display the user name, create a Java servlet that controls the application page flow, and debug the servlet and JSPs.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3</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database to store user information, develop an SQL query to access it, and add Java Database Connectivity (JDBC) calls to your servlet to invoke the query and retrieve the user information.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4</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 the database query as a Web service, generate a JSP test client that invokes the Web service, and monitor the Simple Object Access Protocol (SOAP) message traffic.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40FE75-916A-42A3-8D1C-8DABE71ED9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ttributions</a:t>
            </a:r>
            <a:endParaRPr b="0" lang="en-US" sz="2800" spc="-1" strike="noStrike">
              <a:solidFill>
                <a:srgbClr val="2f2672"/>
              </a:solidFill>
              <a:latin typeface="Arial"/>
            </a:endParaRPr>
          </a:p>
        </p:txBody>
      </p:sp>
      <p:sp>
        <p:nvSpPr>
          <p:cNvPr id="95"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ystems, Inc. in the United States, other countries, or both.</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marks of other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707CC-3128-4F40-9F1B-EE6BD1D57785}"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chng1me</cp:lastModifiedBy>
  <dcterms:modified xsi:type="dcterms:W3CDTF">2006-02-25T22:48:08Z</dcterms:modified>
  <cp:revision>400</cp:revision>
  <dc:subject>IBM Presentation System</dc:subject>
  <dc:title>IBM blue-and-black template with image</dc:title>
</cp:coreProperties>
</file>