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948488"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360C4A-1CF5-4102-A494-DCF3418D56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661680" y="1776240"/>
            <a:ext cx="77374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61680" y="3814560"/>
            <a:ext cx="77374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0626232E-109E-414B-B9E1-C82264F103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661680" y="177624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26360" y="177624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61680" y="381456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26360" y="381456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4DBB09BF-6042-448E-B2E2-9E31BAB1472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661680" y="1776240"/>
            <a:ext cx="249120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277800" y="1776240"/>
            <a:ext cx="249120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893920" y="1776240"/>
            <a:ext cx="249120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61680" y="3814560"/>
            <a:ext cx="249120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277800" y="3814560"/>
            <a:ext cx="249120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893920" y="3814560"/>
            <a:ext cx="249120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3B455A92-1612-45DC-902A-54CEE9EADA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5F6372E-E6E4-437C-8F85-3D94E279687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661680" y="1776240"/>
            <a:ext cx="77374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9579288-1570-473F-9252-650CA95E759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661680" y="1776240"/>
            <a:ext cx="77374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09E5F61-5C5E-4A02-9266-1C410A945A1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661680" y="1776240"/>
            <a:ext cx="3775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26360" y="1776240"/>
            <a:ext cx="3775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351F3685-D209-4EC7-8085-FA5DA08C6D0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0777201-0710-46F4-BDD7-694E8CED4F7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CAFB761A-0C1E-4D0C-9808-F109F841F2B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661680" y="177624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26360" y="1776240"/>
            <a:ext cx="3775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61680" y="381456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82BF9371-5C8F-4B72-9876-3CC1A8D3F0D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661680" y="1776240"/>
            <a:ext cx="77374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838E81-6132-4E67-891A-9E9C0B21FCB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661680" y="1776240"/>
            <a:ext cx="3775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26360" y="177624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26360" y="381456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2B9CF777-C648-4BA5-A6B6-0A0328BE345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661680" y="177624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26360" y="177624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61680" y="3814560"/>
            <a:ext cx="77374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C273F847-7568-48C4-8603-ACC98D6398D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661680" y="1776240"/>
            <a:ext cx="77374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61680" y="3814560"/>
            <a:ext cx="77374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96AC2596-BC84-4D64-8CB9-A891AE440A0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661680" y="177624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26360" y="177624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61680" y="381456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26360" y="381456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2"/>
          </p:nvPr>
        </p:nvSpPr>
        <p:spPr/>
        <p:txBody>
          <a:bodyPr/>
          <a:p>
            <a:fld id="{C37634D5-E7D1-49B4-B954-D41A80F2172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661680" y="1776240"/>
            <a:ext cx="249120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277800" y="1776240"/>
            <a:ext cx="249120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893920" y="1776240"/>
            <a:ext cx="249120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61680" y="3814560"/>
            <a:ext cx="249120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277800" y="3814560"/>
            <a:ext cx="249120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893920" y="3814560"/>
            <a:ext cx="249120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2"/>
          </p:nvPr>
        </p:nvSpPr>
        <p:spPr/>
        <p:txBody>
          <a:bodyPr/>
          <a:p>
            <a:fld id="{87FA1606-6178-4E3D-9A34-9CAF3F1ABB9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661680" y="1776240"/>
            <a:ext cx="77374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86003D-F824-4D6A-AEBF-2610287E62B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661680" y="1776240"/>
            <a:ext cx="3775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26360" y="1776240"/>
            <a:ext cx="3775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9823B421-D931-4A19-AC52-679D72B3E07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EA86634-6DD4-4FA1-9C05-8B97210D0C3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B5CAB2CD-F3A1-4A57-BE53-95684D0DD12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661680" y="177624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26360" y="1776240"/>
            <a:ext cx="3775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61680" y="381456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C776435E-D266-4492-A04D-1007A173D78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661680" y="1776240"/>
            <a:ext cx="3775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26360" y="177624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26360" y="381456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14E16547-4492-4797-AE5F-A936E093162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661680" y="177624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26360" y="177624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61680" y="3814560"/>
            <a:ext cx="77374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72FA12DB-A8ED-49CD-B83F-AB625A97FE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661680" y="1776240"/>
            <a:ext cx="77374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pic>
        <p:nvPicPr>
          <p:cNvPr id="2" name="" descr=""/>
          <p:cNvPicPr/>
          <p:nvPr/>
        </p:nvPicPr>
        <p:blipFill>
          <a:blip r:embed="rId2"/>
          <a:stretch/>
        </p:blipFill>
        <p:spPr>
          <a:xfrm>
            <a:off x="0" y="6286680"/>
            <a:ext cx="9144000" cy="571320"/>
          </a:xfrm>
          <a:prstGeom prst="rect">
            <a:avLst/>
          </a:prstGeom>
          <a:ln w="0">
            <a:noFill/>
          </a:ln>
        </p:spPr>
      </p:pic>
      <p:sp>
        <p:nvSpPr>
          <p:cNvPr id="3"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9C83D-D7A2-4497-A927-2DB44B7DCAD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1447920" y="6475320"/>
            <a:ext cx="7696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va Web App Dev with Eclipse WTP  |  © 2006 by IBM and Naci Dai; made available under the EPL v1.0</a:t>
            </a:r>
            <a:endParaRPr b="0" lang="en-US" sz="1000" spc="-1" strike="noStrike">
              <a:solidFill>
                <a:srgbClr val="ffffff"/>
              </a:solidFill>
              <a:latin typeface="Arial"/>
            </a:endParaRPr>
          </a:p>
        </p:txBody>
      </p:sp>
      <p:pic>
        <p:nvPicPr>
          <p:cNvPr id="6" name="" descr=""/>
          <p:cNvPicPr/>
          <p:nvPr/>
        </p:nvPicPr>
        <p:blipFill>
          <a:blip r:embed="rId3"/>
          <a:stretch/>
        </p:blipFill>
        <p:spPr>
          <a:xfrm>
            <a:off x="390600" y="95400"/>
            <a:ext cx="1387440" cy="749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6286680"/>
            <a:ext cx="9144000" cy="571320"/>
          </a:xfrm>
          <a:prstGeom prst="rect">
            <a:avLst/>
          </a:prstGeom>
          <a:ln w="0">
            <a:noFill/>
          </a:ln>
        </p:spPr>
      </p:pic>
      <p:sp>
        <p:nvSpPr>
          <p:cNvPr id="44"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0000"/>
                </a:solidFill>
                <a:latin typeface="Arial"/>
              </a:rPr>
              <a:t>Click to edit the title text format</a:t>
            </a:r>
            <a:endParaRPr b="1" lang="en-US" sz="5600" spc="-1" strike="noStrike">
              <a:solidFill>
                <a:srgbClr val="000000"/>
              </a:solidFill>
              <a:latin typeface="Arial"/>
            </a:endParaRPr>
          </a:p>
        </p:txBody>
      </p:sp>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69840" y="6456240"/>
            <a:ext cx="909972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2006 by IBM and Naci Dai; made available under the EPL v1.0 |  Santa Clara | Mar. 20, 2006</a:t>
            </a:r>
            <a:endParaRPr b="0" lang="en-US" sz="1300" spc="-1" strike="noStrike">
              <a:solidFill>
                <a:srgbClr val="ffffff"/>
              </a:solidFill>
              <a:latin typeface="Arial"/>
            </a:endParaRPr>
          </a:p>
        </p:txBody>
      </p:sp>
      <p:pic>
        <p:nvPicPr>
          <p:cNvPr id="47" name="" descr=""/>
          <p:cNvPicPr/>
          <p:nvPr/>
        </p:nvPicPr>
        <p:blipFill>
          <a:blip r:embed="rId3"/>
          <a:stretch/>
        </p:blipFill>
        <p:spPr>
          <a:xfrm>
            <a:off x="390600" y="95400"/>
            <a:ext cx="2305080" cy="124452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7920" algn="ctr">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algn="ctr">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90240" y="1187280"/>
            <a:ext cx="7954920" cy="14702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Java™ Web Application Development with Eclipse WTP</a:t>
            </a:r>
            <a:br>
              <a:rPr sz="5000"/>
            </a:br>
            <a:br>
              <a:rPr sz="5600"/>
            </a:br>
            <a:r>
              <a:rPr b="1" lang="en-US" sz="4400" spc="-1" strike="noStrike">
                <a:solidFill>
                  <a:srgbClr val="000000"/>
                </a:solidFill>
                <a:latin typeface="Arial"/>
              </a:rPr>
              <a:t>- WTP Quick Tour</a:t>
            </a:r>
            <a:endParaRPr b="1" lang="en-US" sz="4400" spc="-1" strike="noStrike">
              <a:solidFill>
                <a:srgbClr val="000000"/>
              </a:solidFill>
              <a:latin typeface="Arial"/>
            </a:endParaRPr>
          </a:p>
        </p:txBody>
      </p:sp>
      <p:sp>
        <p:nvSpPr>
          <p:cNvPr id="86" name="PlaceHolder 2"/>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
          <p:cNvSpPr/>
          <p:nvPr/>
        </p:nvSpPr>
        <p:spPr>
          <a:xfrm>
            <a:off x="390600" y="5191200"/>
            <a:ext cx="15541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ci Dai</a:t>
            </a:r>
            <a:br>
              <a:rPr sz="1800"/>
            </a:br>
            <a:r>
              <a:rPr b="0" lang="en-US" sz="1800" spc="-1" strike="noStrike">
                <a:solidFill>
                  <a:srgbClr val="000000"/>
                </a:solidFill>
                <a:latin typeface="Arial"/>
              </a:rPr>
              <a:t>eteration a.s.</a:t>
            </a:r>
            <a:endParaRPr b="0" lang="en-US" sz="1800" spc="-1" strike="noStrike">
              <a:solidFill>
                <a:srgbClr val="ffffff"/>
              </a:solidFill>
              <a:latin typeface="Arial"/>
            </a:endParaRPr>
          </a:p>
        </p:txBody>
      </p:sp>
      <p:sp>
        <p:nvSpPr>
          <p:cNvPr id="88" name=""/>
          <p:cNvSpPr/>
          <p:nvPr/>
        </p:nvSpPr>
        <p:spPr>
          <a:xfrm>
            <a:off x="2868480" y="5191200"/>
            <a:ext cx="2465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wrence Mandel</a:t>
            </a:r>
            <a:br>
              <a:rPr sz="1800"/>
            </a:br>
            <a:r>
              <a:rPr b="0" lang="en-US" sz="1800" spc="-1" strike="noStrike">
                <a:solidFill>
                  <a:srgbClr val="000000"/>
                </a:solidFill>
                <a:latin typeface="Arial"/>
              </a:rPr>
              <a:t>IBM Rational Software</a:t>
            </a:r>
            <a:endParaRPr b="0" lang="en-US" sz="1800" spc="-1" strike="noStrike">
              <a:solidFill>
                <a:srgbClr val="ffffff"/>
              </a:solidFill>
              <a:latin typeface="Arial"/>
            </a:endParaRPr>
          </a:p>
        </p:txBody>
      </p:sp>
      <p:sp>
        <p:nvSpPr>
          <p:cNvPr id="89" name=""/>
          <p:cNvSpPr/>
          <p:nvPr/>
        </p:nvSpPr>
        <p:spPr>
          <a:xfrm>
            <a:off x="5880240" y="5191200"/>
            <a:ext cx="2465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hur Ryman</a:t>
            </a:r>
            <a:br>
              <a:rPr sz="1800"/>
            </a:br>
            <a:r>
              <a:rPr b="0" lang="en-US" sz="1800" spc="-1" strike="noStrike">
                <a:solidFill>
                  <a:srgbClr val="000000"/>
                </a:solidFill>
                <a:latin typeface="Arial"/>
              </a:rPr>
              <a:t>IBM Rational Softwar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E313360-5DA0-4EAC-82C1-AD222D53D0D3}"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genda</a:t>
            </a:r>
            <a:endParaRPr b="0" lang="en-US" sz="2800" spc="-1" strike="noStrike">
              <a:solidFill>
                <a:srgbClr val="2f2672"/>
              </a:solidFill>
              <a:latin typeface="Arial"/>
            </a:endParaRPr>
          </a:p>
        </p:txBody>
      </p:sp>
      <p:sp>
        <p:nvSpPr>
          <p:cNvPr id="91" name="PlaceHolder 2"/>
          <p:cNvSpPr>
            <a:spLocks noGrp="1"/>
          </p:cNvSpPr>
          <p:nvPr>
            <p:ph/>
          </p:nvPr>
        </p:nvSpPr>
        <p:spPr>
          <a:xfrm>
            <a:off x="661680" y="1776240"/>
            <a:ext cx="77374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cc"/>
                </a:solidFill>
                <a:latin typeface="Arial"/>
              </a:rPr>
              <a:t>WTP Quick Tour</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ting up Your Workspace</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esentation Tier</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eak</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usiness Tier</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ersistence Tier</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ervices</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101A97-1805-4F61-8798-726DEF62290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TP Quick Tour Agenda</a:t>
            </a:r>
            <a:endParaRPr b="0" lang="en-US" sz="2800" spc="-1" strike="noStrike">
              <a:solidFill>
                <a:srgbClr val="2f2672"/>
              </a:solidFill>
              <a:latin typeface="Arial"/>
            </a:endParaRPr>
          </a:p>
        </p:txBody>
      </p:sp>
      <p:sp>
        <p:nvSpPr>
          <p:cNvPr id="93" name="PlaceHolder 2"/>
          <p:cNvSpPr>
            <a:spLocks noGrp="1"/>
          </p:cNvSpPr>
          <p:nvPr>
            <p:ph/>
          </p:nvPr>
        </p:nvSpPr>
        <p:spPr>
          <a:xfrm>
            <a:off x="661680" y="1776240"/>
            <a:ext cx="77374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TP contains a lot of tools – let’s start with an overview</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eration 1 </a:t>
            </a:r>
            <a:endParaRPr b="0" lang="en-US" sz="1600" spc="-1" strike="noStrike">
              <a:solidFill>
                <a:srgbClr val="000000"/>
              </a:solidFill>
              <a:latin typeface="Arial"/>
            </a:endParaRPr>
          </a:p>
          <a:p>
            <a:pPr lvl="1" marL="750960" indent="-285840">
              <a:lnSpc>
                <a:spcPct val="90000"/>
              </a:lnSpc>
              <a:spcBef>
                <a:spcPts val="437"/>
              </a:spcBef>
              <a:spcAft>
                <a:spcPts val="26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igure an application server, create a Web application, develop a simple JavaServer</a:t>
            </a:r>
            <a:r>
              <a:rPr b="0" lang="en-US" sz="1400" spc="-1" strike="noStrike" baseline="30000">
                <a:solidFill>
                  <a:srgbClr val="000000"/>
                </a:solidFill>
                <a:latin typeface="Arial"/>
              </a:rPr>
              <a:t>TM</a:t>
            </a:r>
            <a:r>
              <a:rPr b="0" lang="en-US" sz="1400" spc="-1" strike="noStrike">
                <a:solidFill>
                  <a:srgbClr val="000000"/>
                </a:solidFill>
                <a:latin typeface="Arial"/>
              </a:rPr>
              <a:t> Pages (JSP) document that prints a greeting, and run it on the server. </a:t>
            </a:r>
            <a:endParaRPr b="0" lang="en-US" sz="14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eration 2</a:t>
            </a:r>
            <a:endParaRPr b="0" lang="en-US" sz="1600" spc="-1" strike="noStrike">
              <a:solidFill>
                <a:srgbClr val="000000"/>
              </a:solidFill>
              <a:latin typeface="Arial"/>
            </a:endParaRPr>
          </a:p>
          <a:p>
            <a:pPr lvl="1" marL="750960" indent="-285840">
              <a:lnSpc>
                <a:spcPct val="90000"/>
              </a:lnSpc>
              <a:spcBef>
                <a:spcPts val="437"/>
              </a:spcBef>
              <a:spcAft>
                <a:spcPts val="26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a login JSP, write Java scriptlets to display the user name, create a Java servlet that controls the application page flow, and debug the servlet and JSPs. </a:t>
            </a:r>
            <a:endParaRPr b="0" lang="en-US" sz="14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eration 3</a:t>
            </a:r>
            <a:endParaRPr b="0" lang="en-US" sz="1600" spc="-1" strike="noStrike">
              <a:solidFill>
                <a:srgbClr val="000000"/>
              </a:solidFill>
              <a:latin typeface="Arial"/>
            </a:endParaRPr>
          </a:p>
          <a:p>
            <a:pPr lvl="1" marL="750960" indent="-285840">
              <a:lnSpc>
                <a:spcPct val="90000"/>
              </a:lnSpc>
              <a:spcBef>
                <a:spcPts val="437"/>
              </a:spcBef>
              <a:spcAft>
                <a:spcPts val="26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 database to store user information, develop an SQL query to access it, and add Java Database Connectivity (JDBC) calls to your servlet to invoke the query and retrieve the user information. </a:t>
            </a:r>
            <a:endParaRPr b="0" lang="en-US" sz="14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eration 4</a:t>
            </a:r>
            <a:endParaRPr b="0" lang="en-US" sz="1600" spc="-1" strike="noStrike">
              <a:solidFill>
                <a:srgbClr val="000000"/>
              </a:solidFill>
              <a:latin typeface="Arial"/>
            </a:endParaRPr>
          </a:p>
          <a:p>
            <a:pPr lvl="1" marL="750960" indent="-285840">
              <a:lnSpc>
                <a:spcPct val="90000"/>
              </a:lnSpc>
              <a:spcBef>
                <a:spcPts val="437"/>
              </a:spcBef>
              <a:spcAft>
                <a:spcPts val="26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loy the database query as a Web service, generate a JSP test client that invokes the Web service, and monitor the Simple Object Access Protocol (SOAP) message traffic. </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669E703-A1C3-4F01-9261-6EC06982136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ttributions</a:t>
            </a:r>
            <a:endParaRPr b="0" lang="en-US" sz="2800" spc="-1" strike="noStrike">
              <a:solidFill>
                <a:srgbClr val="2f2672"/>
              </a:solidFill>
              <a:latin typeface="Arial"/>
            </a:endParaRPr>
          </a:p>
        </p:txBody>
      </p:sp>
      <p:sp>
        <p:nvSpPr>
          <p:cNvPr id="95" name="PlaceHolder 2"/>
          <p:cNvSpPr>
            <a:spLocks noGrp="1"/>
          </p:cNvSpPr>
          <p:nvPr>
            <p:ph/>
          </p:nvPr>
        </p:nvSpPr>
        <p:spPr>
          <a:xfrm>
            <a:off x="661680" y="1776240"/>
            <a:ext cx="77374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va and all Java-based trademarks are trademarks of Sun</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systems, Inc. in the United States, other countries, or both.</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company, product, or service names may be trademarks or </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 marks of others.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4F013B-B6A9-45B4-9278-58A940BBAC0F}" type="slidenum">
              <a:t>4</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chng1me</cp:lastModifiedBy>
  <dcterms:modified xsi:type="dcterms:W3CDTF">2006-02-25T22:48:43Z</dcterms:modified>
  <cp:revision>398</cp:revision>
  <dc:subject>IBM Presentation System</dc:subject>
  <dc:title>IBM blue-and-black template with image</dc:title>
</cp:coreProperties>
</file>